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297B-32E6-45CA-88E9-60543A49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934A-1D9E-4947-AA97-9878D6A06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E2FD-4C89-4354-8A96-70FC025F6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906-FE8B-4955-9981-212527B6D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59378-20E9-4D90-834C-173E45F5B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6D1B-63B8-40E8-A28F-DCB172B56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19F8-1350-47CD-A69F-FF211FF3C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608D4-741B-4324-8E35-893F17E4C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A22B-7485-463C-ACE2-1186B65A8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560F-DAEC-4475-8B6A-FC280FB4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EC02-9108-44E7-A22B-40E821BB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83E43-B77F-4EF1-A824-75169510B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4E313-7093-4B89-A78B-53DAF29C2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403280" y="0"/>
            <a:ext cx="6607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55640" y="-31680"/>
            <a:ext cx="7740720" cy="68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42920" y="0"/>
            <a:ext cx="8893080" cy="688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01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547640" y="0"/>
            <a:ext cx="595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2195640" y="0"/>
            <a:ext cx="5111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78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122400"/>
            <a:ext cx="9144000" cy="66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639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08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69236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700360" y="0"/>
            <a:ext cx="4176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258920" y="0"/>
            <a:ext cx="6568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62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132000" y="0"/>
            <a:ext cx="401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564000" y="0"/>
            <a:ext cx="3436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619280" y="0"/>
            <a:ext cx="5486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13824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203640" y="0"/>
            <a:ext cx="4016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627280" y="0"/>
            <a:ext cx="490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416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4112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0" y="87480"/>
            <a:ext cx="9144000" cy="65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900000" y="0"/>
            <a:ext cx="745200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340000" y="0"/>
            <a:ext cx="4954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050920" y="0"/>
            <a:ext cx="5220000" cy="68580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97964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5443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59280" y="0"/>
            <a:ext cx="3235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2556000" y="0"/>
            <a:ext cx="4559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908000" y="0"/>
            <a:ext cx="5272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5531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763640" y="0"/>
            <a:ext cx="6257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9T08:22:28Z</dcterms:created>
  <dc:creator>Darina</dc:creator>
  <dc:description/>
  <dc:language>en-US</dc:language>
  <cp:lastModifiedBy>Smets</cp:lastModifiedBy>
  <dcterms:modified xsi:type="dcterms:W3CDTF">2008-09-20T04:14:58Z</dcterms:modified>
  <cp:revision>4</cp:revision>
  <dc:subject/>
  <dc:title>Slide 1</dc:title>
</cp:coreProperties>
</file>