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734-4E96-42AE-B92A-AB0D4F44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340-1CA6-4A63-B9D7-F203656B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6E2-AC17-4019-88B3-7DD766F6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F98-E514-4262-AE94-93342851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C21-46A1-4071-BB78-3D268A0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699-3B0E-461C-98E2-7B8F6E2E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EA4-2E6E-47C7-80B4-B935A464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769-582E-4AD3-B32F-1AE44D4D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C72-929C-4647-8C7E-75775332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331-DE8E-4035-AAF0-52D0CF8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088-D921-4EF3-86CC-D349808F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A87-848E-437B-8320-D6CC639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48B-A5EA-4592-B618-CF1FD659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6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-31680"/>
            <a:ext cx="77407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88930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1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7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1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6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0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343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401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452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95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20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23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5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62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22:28Z</dcterms:created>
  <dc:creator>Darina</dc:creator>
  <dc:description/>
  <dc:language>en-US</dc:language>
  <cp:lastModifiedBy>Smets</cp:lastModifiedBy>
  <dcterms:modified xsi:type="dcterms:W3CDTF">2008-09-20T04:14:58Z</dcterms:modified>
  <cp:revision>4</cp:revision>
  <dc:subject/>
  <dc:title>Slide 1</dc:title>
</cp:coreProperties>
</file>