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7080" y="60260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06224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" name="epic_red_3d" descr=""/>
          <p:cNvPicPr/>
          <p:nvPr/>
        </p:nvPicPr>
        <p:blipFill>
          <a:blip r:embed="rId2"/>
          <a:stretch/>
        </p:blipFill>
        <p:spPr>
          <a:xfrm>
            <a:off x="380880" y="6181560"/>
            <a:ext cx="1295640" cy="314640"/>
          </a:xfrm>
          <a:prstGeom prst="rect">
            <a:avLst/>
          </a:prstGeom>
          <a:ln w="0">
            <a:noFill/>
          </a:ln>
        </p:spPr>
      </p:pic>
      <p:pic>
        <p:nvPicPr>
          <p:cNvPr id="6" name="hselogo" descr=""/>
          <p:cNvPicPr/>
          <p:nvPr/>
        </p:nvPicPr>
        <p:blipFill>
          <a:blip r:embed="rId3"/>
          <a:stretch/>
        </p:blipFill>
        <p:spPr>
          <a:xfrm>
            <a:off x="7824960" y="5719680"/>
            <a:ext cx="1319040" cy="113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Health &amp; Safety Manage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alth &amp; Safety Management for Quarries</a:t>
            </a:r>
            <a:br>
              <a:rPr sz="28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pic Fou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657600"/>
            <a:ext cx="693432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24280" y="2209680"/>
            <a:ext cx="38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s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n effective management structure and arrangements are in place for delivering the polic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752480"/>
          <a:ext cx="39844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39844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Elements of a H&amp;S Management Syste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00600" y="198108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lann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re is a planned and systematic approach to implementing the health and safety policy through an effective health and safety management system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752480"/>
          <a:ext cx="39844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39844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Elements of a H&amp;S Management Syste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0" y="2362320"/>
            <a:ext cx="38862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easuring Performa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rformance is measured against agreed standards to reveal when and where improvement is need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1752480"/>
          <a:ext cx="39844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39844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Elements of a H&amp;S Management Syste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22856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uditing and Reviewing of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organisation learns from all relevant experience and applies the lessons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752480"/>
          <a:ext cx="39844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39844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Elements of a H&amp;S Management Syste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tandard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 standard is defined by the BSI a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“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 document, established by consensus and approved by a recognised body, that provides for common and repeated use, rules, guidelines, or characteristics for activities or their results, aimed at the achievement of the optimum degree of order in a given context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Recent International Standard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ISO 9000 Series: Quality Management Syste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ISO 14000 Series: Environmental Management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 Syste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andards consist of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pecifications and Guida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 specification is a “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etailed set of requirements to be satisfied by a product, material, process or system, indicating the procedures for checking conformity to these requirement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”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 guidance document provides advice rather than a set of verifiable requirements and is designed as an internal management tool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Recent Developments in H&amp;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n 1997 the ISO decided not to develop an OHSMS standard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s a result many countries have developed their own. A recent survey identified 31 such standard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BS 8800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duced by the BSI in 1996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Written as a guidance document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Based on the management systems models from both the HSE and ISO 14001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S 8800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Gives advice 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How to evaluate shortcomings with an existing health &amp; safety management system (OHSMS)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What an adequate system should comprise of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How to progress from existing system to an adequate system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Over 7000 copies of BS8800 were sold in the first twelve month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bjectives of this Se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To define the concepts and components of a health and safety management system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To outline recent developments in health and safety management including the development of OHSAS18001 and accreditatio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1600200"/>
            <a:ext cx="5791320" cy="4495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BS 8800: Management System Models (1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7660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8280" y="1905120"/>
          <a:ext cx="3791160" cy="39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379116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019920" y="2209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O 14001</a:t>
            </a:r>
            <a:r>
              <a:rPr b="0" lang="en-US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0" y="1676520"/>
            <a:ext cx="5562720" cy="46479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BS 8800: Management System Models (2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14600" y="1828800"/>
          <a:ext cx="40705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40705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629400" y="2057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SG65)</a:t>
            </a:r>
            <a:r>
              <a:rPr b="0" lang="en-US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143000"/>
            <a:ext cx="8153280" cy="4724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HSAS 18001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196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1219320"/>
          <a:ext cx="769464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9464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HSAS 18001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duced in 1999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pecification produced by several organisations (both from the UK and internationally) led by the BSI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management system model used in OHSAS 18001 is the ISO 14001 model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s a specification, OHSAS 18001 lists a number of management system requirements using ‘shall’ statements such as ‘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organisation shall establish and maintain documented health and safety objectives, at each relevant function and level within the organisation’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HSAS 18002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duced in 2000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vides generic guidance on the application of 18001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is document describes the intent, typical inputs, processes and typical outputs, against each requirement of 18001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urpose is to aid the understanding and implementation of OHSAS 18001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2438280" y="838080"/>
            <a:ext cx="4267440" cy="4724640"/>
            <a:chOff x="2438280" y="838080"/>
            <a:chExt cx="4267440" cy="4724640"/>
          </a:xfrm>
        </p:grpSpPr>
        <p:sp>
          <p:nvSpPr>
            <p:cNvPr id="119" name=""/>
            <p:cNvSpPr/>
            <p:nvPr/>
          </p:nvSpPr>
          <p:spPr>
            <a:xfrm>
              <a:off x="2438280" y="838080"/>
              <a:ext cx="4267440" cy="472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438280" y="990720"/>
            <a:ext cx="4070520" cy="45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990720"/>
                      <a:ext cx="4070520" cy="45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actical Aspects of a H&amp;S Management Syste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e Health &amp; Safety Policy (1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 OH&amp;S policy establishes an overall sense of direction and sets the principles of action for an organisat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t sets goals for the level of OHS responsibility and performance required from the mine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t demonstrates the formal commitment towards good OH&amp;S management, particularly that of the organisation’s top management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e Health &amp; Safety Policy (2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BS8800 sets out nine specific commitments that must be included to develop a comprehensive policy statement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cognising that OH&amp;S is an integral particle of its business performanc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chieving a high level of OH&amp;S performance, with compliance to legal requirements as a minimum, and to continual cost-effective improvement in performanc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vide adequate and appropriate resources to implement the policy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Health and Safety Policy (2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setting and publishing of OH&amp;S objectives, even if only by internal notificat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lace the management of OH&amp;S as a prime responsibility of line management, from the most senior executive to first line supervisory level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 ensure that the policy statement is understood, implemented and maintained at all levels in the organisat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e Health &amp; Safety Policy (2b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mployee involvement and consultation to gain commitment to the policy and its implementat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eriodic review of the policy, the management system and audit of compliance to policy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nsure that employees at all levels receive appropriate training and are competent to carry out their duties and responsibilitie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H&amp;S Management System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efini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“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The means by which an organisation controls risk through the management process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ealth &amp; Safety Executiv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438280" y="838080"/>
            <a:ext cx="4267440" cy="4724640"/>
            <a:chOff x="2438280" y="838080"/>
            <a:chExt cx="4267440" cy="4724640"/>
          </a:xfrm>
        </p:grpSpPr>
        <p:sp>
          <p:nvSpPr>
            <p:cNvPr id="131" name=""/>
            <p:cNvSpPr/>
            <p:nvPr/>
          </p:nvSpPr>
          <p:spPr>
            <a:xfrm>
              <a:off x="2438280" y="838080"/>
              <a:ext cx="4267440" cy="472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2438280" y="990720"/>
            <a:ext cx="4070520" cy="45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990720"/>
                      <a:ext cx="4070520" cy="45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lanning for Health &amp; Safety Manage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lanning for OH&amp;S involve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dentifying requirements for the system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what needs to be don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etting clear performance criteria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what is to be don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dentifying who is responsible -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who gets it don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etting time scales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when it should be done b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dentifying the desired outcome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what should be the resul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Both BS8800 and OHSAS 18001 identify three key areas which need to be addressed during the planning stag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1) Risk Assessment and Managemen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intent of this requirement is so that the organisation can appreciate all significant OH&amp;S hazards facing it using the process of risk management.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2) Legal require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organisation should identify all legal requirements applicable to it as well as any other industry or company specific requirements to which it subscribe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3) Health &amp; Safety Objectives and Programm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Health and safety objectives are defined as “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goals in terms of H&amp;S performance that an organisation sets itself to achieve and should be quantified wherever practicable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”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xamples of Types of OH&amp;S objectiv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introduction of additional features into the OH&amp;S management system (e.g. permit to work systems for specific tasks, strategic OH&amp;S safety training for supervisors etc.)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improvement of existing features, or the constancy of their application across the Quarry (e.g. accident reporting, communication of standard procedures etc.)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elimination or the reduction in frequency of particular undesired incidents (e.g. reduce accidents by 20%, remove all hazardous material etc.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uitable indicators should be defined for each objective to allow for the monitoring of the implementation of the objectiv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ormal action plans should be drawn up for each OH&amp;S objective that has been identified. These should identify the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Individuals who are responsible for the deliverance of the objectives across the quarry and/or within each operation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Various tasks that need to be undertaken in order to meet each objective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lementing Objectiv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Implementation &amp; Oper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oles and Responsibili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t all levels within the organisation, people need to be aware of their roles and responsibilities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Individual OH&amp;S responsibilities should be clearly defined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ll personnel should be given the authority and resources necessary to carry out their responsibiliti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es and Responsibilities cont’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ppropriate arrangements should exist whereby people are held accountable for discharging their responsibiliti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Reporting relationships should be clear and unambiguou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Where personnel appraisal systems exist OH&amp;S responsibilities should be included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raining &amp; Compete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organisation should have effective procedures for ensuring the competence of personnel to carry out their designated functions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ystematic identification of the competencies required by each employe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vision of training identified as being necessary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ssessment of individuals to ensure that they have acquired and maintain the knowledge and skills necessary for the level of competence required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maintenance of appropriate training/skills record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rt of the overall management system that facilities the management of the OH&amp;S risks associated with the business of the organisation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This includes the organisational structure, planning activities, responsibilities, practices, procedures, processes and resources for developing and achieving, reviewing and maintaining the organisation’s OH&amp;S policy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ritish Standards Institut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Implementation and Operation (2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nsultation &amp; Communic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The organisation should encourage participation in a process of consultation and communication.  This involve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Identifying and receiving relevant OH&amp;S information from outside the organisation including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ew, or amendments to legislation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Information necessary for the identification of hazards and evaluation and control of risks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Information and developments in OH&amp;S management practice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Ensuring that pertinent OH&amp;S information is communicated to all people in the organisation who need it. This requires arrangements to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Ensure that information does not just flow from the top down, but also from the bottom up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Avoiding restricting OH&amp;S items to dedicated OH&amp;S meeting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Report hazards and shortcomings in OH&amp;S arrangement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Ensuring that relevant information is communicated to people outside the organisation who require i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Encouraging feed-back and suggestions from employees on OH&amp;S matter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Implementation and Operation (2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ocument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organisation should document, and maintain up-to-date sufficient documentation on its OH&amp;S management system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is requirement is analogous to Regulation 7 of the Quarries Regulations, 1999 which require the production of a health and safety document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Operational Contro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organisation should establish and maintain arrangements to ensure that activities are carried out safely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se arrangements should be based on the results of the risk assessment, and any health and safety objectives that have been defined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organisation should also plan and prepare for all foreseeable accident, incident and emergency situations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438280" y="838080"/>
            <a:ext cx="4267440" cy="4724640"/>
            <a:chOff x="2438280" y="838080"/>
            <a:chExt cx="4267440" cy="4724640"/>
          </a:xfrm>
        </p:grpSpPr>
        <p:sp>
          <p:nvSpPr>
            <p:cNvPr id="154" name=""/>
            <p:cNvSpPr/>
            <p:nvPr/>
          </p:nvSpPr>
          <p:spPr>
            <a:xfrm>
              <a:off x="2438280" y="838080"/>
              <a:ext cx="4267440" cy="472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2438280" y="990720"/>
            <a:ext cx="4070520" cy="45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990720"/>
                      <a:ext cx="4070520" cy="45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easuring Performance (1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The key purposes of measuring performance are to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Determine whether OH&amp;S plans have been implemented and objectives achieved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Check that risk control measures are in place and are effective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earn from system failures such as areas of non-compliance, accidents and incident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Promote the implementation of plans and risk controls by providing feedback to all parti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Provide information that can be used to review, and if necessary to improve aspects of an OH&amp;S management system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 organisation’s performance measurement system should incorporate both active and reactive monitoring dat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easuring Performance (2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ctive measuring systems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sed to check compliance with the organisations OH&amp;S activities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xamples of active monitoring data are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he extent to which plans and objectives have been set and achieve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Whether a director for OH&amp;S has been appointe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Whether a safety policy has been publishe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he numbers trained in OH&amp;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umber of risk assessments complete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Extent of compliance with risk control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ctive Measuring systems cont’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Extent of compliance with statutory requirements Frequency of OH&amp;S audit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Frequency and effectiveness of OH&amp;S committee meeting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OH&amp;S specialist report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Health Surveillance report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Workplace exposure level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Personal protective equipment use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Reactive monitoring System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hould be used to investigate, analyse and record OH&amp;S management system failures including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Unsafe Ac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Unsafe condi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Lost time acciden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jor accidents &amp; fatalit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ickness absenc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riticisms made by regulatory agency staff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plaints made by members of the public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afety Programme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raditional approach is the use of safety programme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grammes are focused on compliance with standards/regulations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grammes do not have strong or any feedback mechanisms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performance of a programme is measured using (reactive) indicators such as the number of accidents, injuries etc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easuring Performance (3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vestigating Accidents and Incide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Organisations should have procedures for both the reporting and investigating of accidents and incidents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prime purpose of these procedures should be to prevent further occurrence of the situation by identifying and dealing with the root causes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438280" y="838080"/>
            <a:ext cx="4267440" cy="4724640"/>
            <a:chOff x="2438280" y="838080"/>
            <a:chExt cx="4267440" cy="4724640"/>
          </a:xfrm>
        </p:grpSpPr>
        <p:sp>
          <p:nvSpPr>
            <p:cNvPr id="167" name=""/>
            <p:cNvSpPr/>
            <p:nvPr/>
          </p:nvSpPr>
          <p:spPr>
            <a:xfrm>
              <a:off x="2438280" y="838080"/>
              <a:ext cx="4267440" cy="472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2438280" y="990720"/>
            <a:ext cx="4070520" cy="45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990720"/>
                      <a:ext cx="4070520" cy="45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Auditing</a:t>
            </a: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OH&amp;S auditing is a process whereby an organisation can review and continuously evaluate the effectiveness of their OH&amp;S management system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afety auditing is a positive and proactive means of checking the safety performance of an organisation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Requirements of Auditing (1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edul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 annual plan should be prepared for carrying out internal safety audits.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nagement Suppor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o be of value, senior management should be fully committed to the concept of auditing and its effective implementation within the organisat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udi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udits provide a comprehensive and formal assessment of the organisation’s compliance with OH&amp;S procedures and practices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end result of an audit should include a detailed written assessment of OH&amp;S procedures, the levels of compliance with procedures and practices and should where necessary identify corrective action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udito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One or more persons may undertake audits.  A team approach may widen the involvement and improve co-operation.  They should be independent of the part of the organisation or the activity that is to be audited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requirements of Auditing (2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ata collection and interpret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Relevant documentation should be examined. This may includ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OH&amp;S management system documentation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OH&amp;S policy statemen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OH&amp;S emergency procedur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Permit to work systems and procedur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Minutes of OH&amp;S meeting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Accident/Incident reports and record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raining record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Reports or communication with the enforcing authority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udit resul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t the end of the audit, and before submitting their report, the auditor or the Audit team should hold a meeting with the responsible manager of the audited area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main purpose of such a meeting is to communicate the results of the audit to the responsible manager in order to ensure that it is understood and agreement is reached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requirements of Auditing (2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ntent of the Repor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The content of the final audit report should, depending on the case, contain the following element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he audit objectives and scop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he particulars of the audit plan, identification of the members of the auditing team and the audited representative, dates of audit and identification of the area subject to audit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ntent of the Report cont’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he identification of reference handbooks used to conduct the audit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he cases of non conformance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he auditors assessment of the degree of conformity to OHSAS 1800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The ability of the OH&amp;S management system to achieve the stated OH&amp;S objectiv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ystems Approa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our elements common to general systems theories are input, process, output and feedback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ystems are also classed as being either open or closed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Open systems interacts with the external environment and is subject to external influences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Closed systems do not interact with the environment and so their ability to adapt or respond to changing internal conditions is limite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5120" y="1828800"/>
            <a:ext cx="5638680" cy="3352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ystems Approa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296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76520" y="2057400"/>
          <a:ext cx="605772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0577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09680" y="2057400"/>
            <a:ext cx="5257800" cy="4495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Elements of a H&amp;S Management System (1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HSE Mod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(HSG65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0480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362320" y="2133720"/>
            <a:ext cx="4743360" cy="4514760"/>
            <a:chOff x="2362320" y="2133720"/>
            <a:chExt cx="4743360" cy="4514760"/>
          </a:xfrm>
        </p:grpSpPr>
        <p:graphicFrame>
          <p:nvGraphicFramePr>
            <p:cNvPr id="65" name=""/>
            <p:cNvGraphicFramePr/>
            <p:nvPr/>
          </p:nvGraphicFramePr>
          <p:xfrm>
            <a:off x="2590920" y="2209680"/>
            <a:ext cx="4514760" cy="405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2209680"/>
                      <a:ext cx="4514760" cy="405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" name=""/>
            <p:cNvGraphicFramePr/>
            <p:nvPr/>
          </p:nvGraphicFramePr>
          <p:xfrm>
            <a:off x="2362320" y="2133720"/>
            <a:ext cx="4070160" cy="451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2133720"/>
                      <a:ext cx="4070160" cy="45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Key Elements of a H&amp;S Management Syste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lic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ffective health and safety policies set a clear direction for the organisation to follow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1752480"/>
          <a:ext cx="39844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39844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20:37:33Z</dcterms:created>
  <dc:creator>HSE</dc:creator>
  <dc:description/>
  <cp:keywords>quarries health safety management industry</cp:keywords>
  <dc:language>en-US</dc:language>
  <cp:lastModifiedBy>Name</cp:lastModifiedBy>
  <dcterms:modified xsi:type="dcterms:W3CDTF">2007-09-26T12:04:09Z</dcterms:modified>
  <cp:revision>14</cp:revision>
  <dc:subject>Health &amp; Safety Management for Quarries</dc:subject>
  <dc:title>Topic Four - Health &amp; Safety Management</dc:title>
</cp:coreProperties>
</file>