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9AE-BFDC-4E1E-97FA-C104CAE5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5EF-3284-44C2-8173-78D60FA2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A81-69BA-4D70-BD13-EACC15A1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BA0-FDC6-4C7B-A810-037DBBB8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303-D04E-4B24-8A77-C1061751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00A-7199-4953-880F-465B29E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B4E-F361-4389-A44E-6A7E862C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37E-E4CA-4239-B874-1933474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344-C029-44AF-B69A-3C02D2FD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19F-BE51-4679-A26D-F7F0F74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C2D-7E6D-40FC-B8B1-48BF65C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C94-F950-4878-8D78-06CCD9D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280-90A6-40CC-A047-F8B05DD110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23:58:31Z</dcterms:modified>
  <cp:revision>24</cp:revision>
  <dc:subject/>
  <dc:title>슬라이드 1</dc:title>
</cp:coreProperties>
</file>