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BC7-71A4-4187-B4A3-E4D60A78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DE6-F8A3-464D-BE8C-5F5E1699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DC9-5CF4-4C4F-BF03-7E590E13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5C2-CD6B-44D8-B142-C399DD1C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818-5F56-45AE-BAEE-91F2B798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9B5-BAC6-4239-B419-640A4BB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A0C-5945-4442-A24C-01AC7D97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91B-3E9F-4892-B39E-7242B905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895-CDCC-43B3-80B5-0F23E9F8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A01-A180-4066-B547-F7A3927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F26-32D7-4839-B1CE-DF7AF2F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E89-ADDF-4CC1-A3C4-B6A805CD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939-C104-4D37-869C-2A61374E99B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23:58:31Z</dcterms:modified>
  <cp:revision>24</cp:revision>
  <dc:subject/>
  <dc:title>슬라이드 1</dc:title>
</cp:coreProperties>
</file>