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ED9-9CA8-4C03-B897-92B3441B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57E-5F48-4F1E-8CEB-D7C40160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698-BB01-444D-B97C-2196963A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CA6-5211-4ACD-A9E3-DD7CAB2D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EC9-3009-44BC-A48B-03D871C9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DF9-DF93-4828-AA3E-6037D1F6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DC4-CBC6-4972-921D-759B3803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6E6-DD1C-4520-8D10-52EC2E4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C7B-7F81-42AD-B07C-F09C92D4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C19-29AC-4B9B-83CF-C19152D1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3D3-E3FD-4013-9BB4-CCFB10D2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D89-7C55-4C67-B0A2-0BA7506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D9F96-7181-4CBC-842A-66F1D14B85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28FD3-B4EE-47AC-ABA2-56E7E59B185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" Target="slide7.xml"/><Relationship Id="rId18" Type="http://schemas.openxmlformats.org/officeDocument/2006/relationships/image" Target="../media/image3.png"/><Relationship Id="rId19" Type="http://schemas.openxmlformats.org/officeDocument/2006/relationships/slide" Target="slide11.xm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4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5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6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7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5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8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1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2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3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6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9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00:12Z</dcterms:created>
  <dc:creator>최봉수</dc:creator>
  <dc:description/>
  <dc:language>en-US</dc:language>
  <cp:lastModifiedBy>맛있다 군만두</cp:lastModifiedBy>
  <dcterms:modified xsi:type="dcterms:W3CDTF">2024-09-24T08:24:14Z</dcterms:modified>
  <cp:revision>3</cp:revision>
  <dc:subject/>
  <dc:title>슬라이드 1</dc:title>
</cp:coreProperties>
</file>