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F7D3-95F7-44FE-B365-59B89ECA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660D-4406-4703-B132-E2479496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273-4F2A-4750-ABF6-888FC7F3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71F-3BB5-4410-9CBA-C8A0BD51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B9F-3E80-439F-9482-F7F47BF3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131-BD68-417F-AF05-E9B077BE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B07-D234-4F36-A97D-201236F9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2210-7CC9-4F1F-BED5-A5CD5F56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6A8-752C-4F56-8CDE-D66E4745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FA40-39F8-4C65-8185-7B554246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42F-3812-4270-9FC5-BC3F1280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56E8-B6B2-429D-907E-94A5B8CF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B3659-9C65-49FA-9116-356FCB0817E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0DA9F-C4AE-4604-95CE-52DFAEC60E9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56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59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1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1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21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24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27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30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3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3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4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43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46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49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53" name="Picture 6" descr=""/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7"/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56" name="Picture 9" descr=""/>
            <p:cNvPicPr/>
            <p:nvPr/>
          </p:nvPicPr>
          <p:blipFill>
            <a:blip r:embed="rId4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0"/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59" name="Picture 12" descr=""/>
            <p:cNvPicPr/>
            <p:nvPr/>
          </p:nvPicPr>
          <p:blipFill>
            <a:blip r:embed="rId5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3"/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62" name="Picture 15" descr=""/>
            <p:cNvPicPr/>
            <p:nvPr/>
          </p:nvPicPr>
          <p:blipFill>
            <a:blip r:embed="rId6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6"/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65" name="Picture 18" descr=""/>
            <p:cNvPicPr/>
            <p:nvPr/>
          </p:nvPicPr>
          <p:blipFill>
            <a:blip r:embed="rId7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19"/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68" name="Picture 21" descr=""/>
            <p:cNvPicPr/>
            <p:nvPr/>
          </p:nvPicPr>
          <p:blipFill>
            <a:blip r:embed="rId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22"/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6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6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6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72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75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78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8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8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8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91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94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97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0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0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0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10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13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16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2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2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2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29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32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35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3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4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4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48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51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54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5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6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6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67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70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73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7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8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8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86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89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92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05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08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11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8:00:12Z</dcterms:created>
  <dc:creator>최봉수</dc:creator>
  <dc:description/>
  <dc:language>en-US</dc:language>
  <cp:lastModifiedBy>맛있다 군만두</cp:lastModifiedBy>
  <dcterms:modified xsi:type="dcterms:W3CDTF">2024-09-24T08:24:14Z</dcterms:modified>
  <cp:revision>3</cp:revision>
  <dc:subject/>
  <dc:title>슬라이드 1</dc:title>
</cp:coreProperties>
</file>