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837-E6F3-4630-8B36-44E9D9C2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8C8-C0D6-4BAE-90B2-F8B06388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CFA-BE8F-4DCD-BC82-F4AC1C0B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BD6-8C9B-481D-A598-DA1BF34F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BD1-0FC2-4C8C-9F4E-B88AE8B0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1EC-60BD-4DC2-AD0D-2520B11A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D39-98FC-4B72-B914-6AD40DE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7CE-0BF2-40C8-9616-9072B7D3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D4E-F67F-4C4F-8BF8-497A56A4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DB4-196E-4964-8BC4-DC27773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EAF-0131-403C-874F-999D39B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3B8-8A98-4677-BEA3-ECAC898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6200" y="626544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E91-C624-4860-9204-97C2FD9ECFD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05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5C2A74EF-3D49-48E0-98F4-70E73C8516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EAE8-6C11-41EF-9CC2-412B49ACFF0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260880" y="623736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E2E5CD8-E0DD-4941-A2D0-33C8D4953FE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6" descr=""/>
          <p:cNvPicPr/>
          <p:nvPr/>
        </p:nvPicPr>
        <p:blipFill>
          <a:blip r:embed="rId1"/>
          <a:stretch/>
        </p:blipFill>
        <p:spPr>
          <a:xfrm>
            <a:off x="596880" y="2749680"/>
            <a:ext cx="82123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11C2-7643-480F-9C17-04A6AB0B0F3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1F5A07A2-5018-4BB4-A438-2B215C3758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1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2720" y="836640"/>
            <a:ext cx="82803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a  menghitung integral lintasan dari f(z) atas lintasan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yatakan lintasan C dalam  z(t) = x(t) + i y(t),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i turunan, z’ 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titusikan z(t) dan z ‘ (t)  ke dalam integ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sikan  f(z) z’ (t) terhadap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973080" y="2708280"/>
                <a:ext cx="3382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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Text Box 7"/>
          <p:cNvSpPr/>
          <p:nvPr/>
        </p:nvSpPr>
        <p:spPr>
          <a:xfrm>
            <a:off x="565920" y="3933720"/>
            <a:ext cx="262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is lintas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2484360" y="3715920"/>
            <a:ext cx="2808360" cy="2089080"/>
            <a:chOff x="2484360" y="3715920"/>
            <a:chExt cx="2808360" cy="2089080"/>
          </a:xfrm>
        </p:grpSpPr>
        <p:sp>
          <p:nvSpPr>
            <p:cNvPr id="188" name="Line 9"/>
            <p:cNvSpPr/>
            <p:nvPr/>
          </p:nvSpPr>
          <p:spPr>
            <a:xfrm flipV="1">
              <a:off x="3708360" y="3715920"/>
              <a:ext cx="0" cy="20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2484360" y="486864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2916360" y="4076640"/>
              <a:ext cx="1584360" cy="158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2"/>
          <p:cNvSpPr/>
          <p:nvPr/>
        </p:nvSpPr>
        <p:spPr>
          <a:xfrm flipH="1">
            <a:off x="3708360" y="4221000"/>
            <a:ext cx="50472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213800" y="39528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x, 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782880" y="422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3854160" y="450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6"/>
          <p:cNvSpPr/>
          <p:nvPr/>
        </p:nvSpPr>
        <p:spPr>
          <a:xfrm flipH="1">
            <a:off x="4068000" y="4363920"/>
            <a:ext cx="14436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213080" y="4221000"/>
            <a:ext cx="0" cy="64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3708360" y="4221000"/>
            <a:ext cx="504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055120" y="35352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r cos t dan y = r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961520" y="4068720"/>
            <a:ext cx="38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z(t) = x(t) + i y(t) 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854320" y="45435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 cos t + i r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5857920" y="500688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 ( cos t + i sin t ) =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92D2-8CE0-4B0B-8696-CF539AB251B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59478EE3-3A29-4E38-8A08-FE772F39E32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06" name="Group 27"/>
          <p:cNvGrpSpPr/>
          <p:nvPr/>
        </p:nvGrpSpPr>
        <p:grpSpPr>
          <a:xfrm>
            <a:off x="674640" y="1089000"/>
            <a:ext cx="2664000" cy="2232000"/>
            <a:chOff x="674640" y="1089000"/>
            <a:chExt cx="2664000" cy="2232000"/>
          </a:xfrm>
        </p:grpSpPr>
        <p:sp>
          <p:nvSpPr>
            <p:cNvPr id="207" name="Oval 21"/>
            <p:cNvSpPr/>
            <p:nvPr/>
          </p:nvSpPr>
          <p:spPr>
            <a:xfrm>
              <a:off x="1035000" y="1449360"/>
              <a:ext cx="1656000" cy="15829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674640" y="288936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4"/>
            <p:cNvSpPr/>
            <p:nvPr/>
          </p:nvSpPr>
          <p:spPr>
            <a:xfrm flipV="1">
              <a:off x="890640" y="108900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890640" y="224136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6"/>
            <p:cNvSpPr/>
            <p:nvPr/>
          </p:nvSpPr>
          <p:spPr>
            <a:xfrm>
              <a:off x="1958040" y="204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8"/>
          <p:cNvSpPr/>
          <p:nvPr/>
        </p:nvSpPr>
        <p:spPr>
          <a:xfrm>
            <a:off x="544320" y="3392640"/>
            <a:ext cx="3508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8"/>
          <p:cNvGrpSpPr/>
          <p:nvPr/>
        </p:nvGrpSpPr>
        <p:grpSpPr>
          <a:xfrm>
            <a:off x="6156360" y="1644480"/>
            <a:ext cx="1485720" cy="1477800"/>
            <a:chOff x="6156360" y="1644480"/>
            <a:chExt cx="1485720" cy="1477800"/>
          </a:xfrm>
        </p:grpSpPr>
        <p:sp>
          <p:nvSpPr>
            <p:cNvPr id="214" name="Oval 29"/>
            <p:cNvSpPr/>
            <p:nvPr/>
          </p:nvSpPr>
          <p:spPr>
            <a:xfrm rot="10419600">
              <a:off x="6383880" y="20934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0"/>
            <p:cNvSpPr/>
            <p:nvPr/>
          </p:nvSpPr>
          <p:spPr>
            <a:xfrm>
              <a:off x="6270480" y="2550960"/>
              <a:ext cx="137124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841800" y="18651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6156360" y="255096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 flipH="1">
              <a:off x="6727680" y="2093760"/>
              <a:ext cx="11376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4"/>
            <p:cNvSpPr/>
            <p:nvPr/>
          </p:nvSpPr>
          <p:spPr>
            <a:xfrm>
              <a:off x="7067160" y="2020680"/>
              <a:ext cx="456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5"/>
            <p:cNvSpPr/>
            <p:nvPr/>
          </p:nvSpPr>
          <p:spPr>
            <a:xfrm>
              <a:off x="7070400" y="2436480"/>
              <a:ext cx="45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6"/>
            <p:cNvSpPr/>
            <p:nvPr/>
          </p:nvSpPr>
          <p:spPr>
            <a:xfrm>
              <a:off x="6156360" y="2436480"/>
              <a:ext cx="45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7"/>
            <p:cNvSpPr/>
            <p:nvPr/>
          </p:nvSpPr>
          <p:spPr>
            <a:xfrm>
              <a:off x="6534000" y="1644480"/>
              <a:ext cx="342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3924360" y="3332160"/>
            <a:ext cx="1582560" cy="1405080"/>
            <a:chOff x="3924360" y="3332160"/>
            <a:chExt cx="1582560" cy="1405080"/>
          </a:xfrm>
        </p:grpSpPr>
        <p:sp>
          <p:nvSpPr>
            <p:cNvPr id="224" name="Oval 39"/>
            <p:cNvSpPr/>
            <p:nvPr/>
          </p:nvSpPr>
          <p:spPr>
            <a:xfrm>
              <a:off x="4152960" y="36910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3924360" y="3576960"/>
              <a:ext cx="685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3924360" y="414828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4610160" y="3462120"/>
              <a:ext cx="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067360" y="414828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4"/>
            <p:cNvSpPr/>
            <p:nvPr/>
          </p:nvSpPr>
          <p:spPr>
            <a:xfrm>
              <a:off x="4838760" y="3530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5"/>
            <p:cNvSpPr/>
            <p:nvPr/>
          </p:nvSpPr>
          <p:spPr>
            <a:xfrm>
              <a:off x="4227480" y="3530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6"/>
            <p:cNvSpPr/>
            <p:nvPr/>
          </p:nvSpPr>
          <p:spPr>
            <a:xfrm>
              <a:off x="3989520" y="4394520"/>
              <a:ext cx="742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7"/>
            <p:cNvSpPr/>
            <p:nvPr/>
          </p:nvSpPr>
          <p:spPr>
            <a:xfrm>
              <a:off x="5164200" y="41864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8"/>
            <p:cNvSpPr/>
            <p:nvPr/>
          </p:nvSpPr>
          <p:spPr>
            <a:xfrm>
              <a:off x="4267080" y="333216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0"/>
              <p:cNvSpPr txBox="1"/>
              <p:nvPr/>
            </p:nvSpPr>
            <p:spPr>
              <a:xfrm>
                <a:off x="6083280" y="2978280"/>
                <a:ext cx="15112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Rectangle 5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2"/>
              <p:cNvSpPr txBox="1"/>
              <p:nvPr/>
            </p:nvSpPr>
            <p:spPr>
              <a:xfrm>
                <a:off x="3851280" y="4737240"/>
                <a:ext cx="1619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Rectangle 5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54"/>
              <p:cNvSpPr txBox="1"/>
              <p:nvPr/>
            </p:nvSpPr>
            <p:spPr>
              <a:xfrm>
                <a:off x="6083280" y="3625920"/>
                <a:ext cx="1584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5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6"/>
              <p:cNvSpPr txBox="1"/>
              <p:nvPr/>
            </p:nvSpPr>
            <p:spPr>
              <a:xfrm>
                <a:off x="3808440" y="53038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6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588-42D2-4B5E-9791-E35FD5CCADD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A74F453-FB9A-440C-A6E4-3E93CBA61CC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1116000" y="14119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8000"/>
                </a:solidFill>
                <a:latin typeface="Arial"/>
              </a:rPr>
              <a:t>Hitung integral dari f(z) = x - iy atas  lintasan C berbentuk lingkaran satuan  dengan arah berlawanan jarum jam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1"/>
              <p:cNvSpPr txBox="1"/>
              <p:nvPr/>
            </p:nvSpPr>
            <p:spPr>
              <a:xfrm>
                <a:off x="1116000" y="2178000"/>
                <a:ext cx="3811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42"/>
          <p:cNvSpPr/>
          <p:nvPr/>
        </p:nvSpPr>
        <p:spPr>
          <a:xfrm>
            <a:off x="4869720" y="2275560"/>
            <a:ext cx="15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;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4"/>
              <p:cNvSpPr txBox="1"/>
              <p:nvPr/>
            </p:nvSpPr>
            <p:spPr>
              <a:xfrm>
                <a:off x="1116000" y="2781360"/>
                <a:ext cx="3745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 Box 45"/>
          <p:cNvSpPr/>
          <p:nvPr/>
        </p:nvSpPr>
        <p:spPr>
          <a:xfrm>
            <a:off x="4875120" y="288756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x = cos t dan y =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7"/>
              <p:cNvSpPr txBox="1"/>
              <p:nvPr/>
            </p:nvSpPr>
            <p:spPr>
              <a:xfrm>
                <a:off x="1116000" y="3281400"/>
                <a:ext cx="3168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9"/>
              <p:cNvSpPr txBox="1"/>
              <p:nvPr/>
            </p:nvSpPr>
            <p:spPr>
              <a:xfrm>
                <a:off x="2124000" y="4149720"/>
                <a:ext cx="4103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1"/>
              <p:cNvSpPr txBox="1"/>
              <p:nvPr/>
            </p:nvSpPr>
            <p:spPr>
              <a:xfrm>
                <a:off x="5219640" y="5157720"/>
                <a:ext cx="865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53"/>
              <p:cNvSpPr txBox="1"/>
              <p:nvPr/>
            </p:nvSpPr>
            <p:spPr>
              <a:xfrm>
                <a:off x="2124000" y="5018040"/>
                <a:ext cx="1871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5"/>
              <p:cNvSpPr txBox="1"/>
              <p:nvPr/>
            </p:nvSpPr>
            <p:spPr>
              <a:xfrm>
                <a:off x="4068720" y="4915080"/>
                <a:ext cx="1008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240-BB71-4F08-9EE4-221008397F6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09E16135-173A-4852-ABB2-90AE9E327D4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67" name="Group 39"/>
          <p:cNvGrpSpPr/>
          <p:nvPr/>
        </p:nvGrpSpPr>
        <p:grpSpPr>
          <a:xfrm>
            <a:off x="2622600" y="2147760"/>
            <a:ext cx="2670120" cy="1785600"/>
            <a:chOff x="2622600" y="2147760"/>
            <a:chExt cx="2670120" cy="1785600"/>
          </a:xfrm>
        </p:grpSpPr>
        <p:sp>
          <p:nvSpPr>
            <p:cNvPr id="268" name="Oval 4"/>
            <p:cNvSpPr/>
            <p:nvPr/>
          </p:nvSpPr>
          <p:spPr>
            <a:xfrm>
              <a:off x="2927520" y="2447640"/>
              <a:ext cx="2057400" cy="1143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3952800" y="2219040"/>
              <a:ext cx="468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2728800" y="2997000"/>
              <a:ext cx="248472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 flipV="1">
              <a:off x="3956040" y="2561760"/>
              <a:ext cx="571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3592440" y="3018960"/>
              <a:ext cx="94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4527720" y="2333160"/>
              <a:ext cx="765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( x,y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4184640" y="272232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11"/>
            <p:cNvSpPr/>
            <p:nvPr/>
          </p:nvSpPr>
          <p:spPr>
            <a:xfrm>
              <a:off x="4299120" y="2676240"/>
              <a:ext cx="228600" cy="34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4870440" y="301896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2622600" y="30189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-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3941640" y="21477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3565440" y="359064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-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332000" y="1125360"/>
                <a:ext cx="295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20"/>
          <p:cNvSpPr/>
          <p:nvPr/>
        </p:nvSpPr>
        <p:spPr>
          <a:xfrm>
            <a:off x="1476360" y="4330800"/>
            <a:ext cx="64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(t) =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cos t + i b sin t  deng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n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( 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551480" y="1287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6505 0.125 0.3706 C 0.125 0.57477 0.06892 0.74144 3.05556E-006 0.74144 C -0.0691 0.74144 -0.125 0.57477 -0.125 0.3706 C -0.125 0.16505 -0.0691 -1.11111E-006 3.05556E-006 -1.11111E-006 Z">
                                      <p:cBhvr>
                                        <p:cTn id="44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AA08-975F-4185-A846-8A3CD91BB44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A06155FA-FBAC-42A4-B2C1-9340ACD74DA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1116000" y="10609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Hitung integral dari  f(z) = x - i y dan lintasan C  berlawanan arah dengan jarum jam berbentuk ellip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9"/>
              <p:cNvSpPr txBox="1"/>
              <p:nvPr/>
            </p:nvSpPr>
            <p:spPr>
              <a:xfrm>
                <a:off x="1692360" y="1916280"/>
                <a:ext cx="1512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Text Box 20"/>
          <p:cNvSpPr/>
          <p:nvPr/>
        </p:nvSpPr>
        <p:spPr>
          <a:xfrm>
            <a:off x="3328200" y="1982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3924360" y="1700280"/>
                <a:ext cx="1512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22"/>
          <p:cNvSpPr/>
          <p:nvPr/>
        </p:nvSpPr>
        <p:spPr>
          <a:xfrm>
            <a:off x="1674000" y="2693160"/>
            <a:ext cx="48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z(t) = cos t + 2 i sin t , dengan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1745640" y="308664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‘ ( t ) = - sin t + 2 i co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4"/>
              <p:cNvSpPr txBox="1"/>
              <p:nvPr/>
            </p:nvSpPr>
            <p:spPr>
              <a:xfrm>
                <a:off x="1774800" y="3571920"/>
                <a:ext cx="517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5"/>
              <p:cNvSpPr txBox="1"/>
              <p:nvPr/>
            </p:nvSpPr>
            <p:spPr>
              <a:xfrm>
                <a:off x="2820960" y="4437000"/>
                <a:ext cx="2100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6"/>
              <p:cNvSpPr txBox="1"/>
              <p:nvPr/>
            </p:nvSpPr>
            <p:spPr>
              <a:xfrm>
                <a:off x="2844720" y="5156280"/>
                <a:ext cx="30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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6505 0.125 0.3706 C 0.125 0.57477 0.06892 0.74144 3.05556E-006 0.74144 C -0.0691 0.74144 -0.125 0.57477 -0.125 0.3706 C -0.125 0.16505 -0.0691 -1.11111E-006 3.05556E-006 -1.11111E-006 Z">
                                      <p:cBhvr>
                                        <p:cTn id="464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10A-191A-4F9D-A145-42D8E1CE146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CA40F3E8-2936-49C4-8BD8-8AA347F23BE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4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971640" y="2654280"/>
            <a:ext cx="79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908000" y="2725560"/>
            <a:ext cx="1008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547640" y="2349360"/>
            <a:ext cx="86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2843280" y="2276640"/>
            <a:ext cx="934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2770200" y="1773360"/>
            <a:ext cx="86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1332000" y="1917720"/>
            <a:ext cx="2448000" cy="1440000"/>
            <a:chOff x="1332000" y="1917720"/>
            <a:chExt cx="2448000" cy="1440000"/>
          </a:xfrm>
        </p:grpSpPr>
        <p:sp>
          <p:nvSpPr>
            <p:cNvPr id="306" name="Line 9"/>
            <p:cNvSpPr/>
            <p:nvPr/>
          </p:nvSpPr>
          <p:spPr>
            <a:xfrm flipV="1">
              <a:off x="1500480" y="28317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1957680" y="26031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V="1">
              <a:off x="2414880" y="23745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V="1">
              <a:off x="2872080" y="21459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3"/>
            <p:cNvSpPr/>
            <p:nvPr/>
          </p:nvSpPr>
          <p:spPr>
            <a:xfrm>
              <a:off x="1332000" y="301500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3360960" y="191772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1403280" y="5084640"/>
                <a:ext cx="554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nga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1335240" y="3500280"/>
            <a:ext cx="374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½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1273680" y="1268280"/>
            <a:ext cx="439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as garis dari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4201200" y="20239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ilih untuk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334520" y="3968640"/>
            <a:ext cx="402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/4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/4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1334520" y="4400640"/>
            <a:ext cx="402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/4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/4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827-55D9-43F7-8220-0DE34D6B470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749EDC6-82CF-46A3-A95E-3D82DE7CC27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2"/>
              <p:cNvSpPr txBox="1"/>
              <p:nvPr/>
            </p:nvSpPr>
            <p:spPr>
              <a:xfrm>
                <a:off x="3492360" y="1038240"/>
                <a:ext cx="2422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Text Box 24"/>
          <p:cNvSpPr/>
          <p:nvPr/>
        </p:nvSpPr>
        <p:spPr>
          <a:xfrm>
            <a:off x="970920" y="112536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dar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34280" y="170028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s ruas garis dari z = 0 ke z = 1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>
            <a:off x="1047960" y="22755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(t) = t + ti , dengan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>
            <a:off x="1113840" y="292320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‘ (t) = 1 +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0"/>
              <p:cNvSpPr txBox="1"/>
              <p:nvPr/>
            </p:nvSpPr>
            <p:spPr>
              <a:xfrm>
                <a:off x="1116000" y="3500280"/>
                <a:ext cx="2498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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Rectangle 33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32"/>
              <p:cNvSpPr txBox="1"/>
              <p:nvPr/>
            </p:nvSpPr>
            <p:spPr>
              <a:xfrm>
                <a:off x="3780000" y="3498840"/>
                <a:ext cx="3384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3" name="Rectangle 35"/>
          <p:cNvSpPr/>
          <p:nvPr/>
        </p:nvSpPr>
        <p:spPr>
          <a:xfrm>
            <a:off x="25092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4"/>
              <p:cNvSpPr txBox="1"/>
              <p:nvPr/>
            </p:nvSpPr>
            <p:spPr>
              <a:xfrm>
                <a:off x="2052720" y="5157720"/>
                <a:ext cx="122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6"/>
              <p:cNvSpPr txBox="1"/>
              <p:nvPr/>
            </p:nvSpPr>
            <p:spPr>
              <a:xfrm>
                <a:off x="2050920" y="4292640"/>
                <a:ext cx="3384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)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7" name="Rectangle 3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8"/>
              <p:cNvSpPr txBox="1"/>
              <p:nvPr/>
            </p:nvSpPr>
            <p:spPr>
              <a:xfrm>
                <a:off x="5508720" y="4365720"/>
                <a:ext cx="2520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88A-C662-40E9-86CE-2F954D6570D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1A032BF1-9A2B-465E-9590-42DD4E64BEE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5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16000" y="1052640"/>
            <a:ext cx="712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asan C berupa kurva y = f(x) dari titik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ke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187280" y="3824280"/>
            <a:ext cx="684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x = t maka z(t) = t + i f(t) dengan x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3"/>
          <p:cNvGrpSpPr/>
          <p:nvPr/>
        </p:nvGrpSpPr>
        <p:grpSpPr>
          <a:xfrm>
            <a:off x="2563200" y="1773360"/>
            <a:ext cx="3508920" cy="1800000"/>
            <a:chOff x="2563200" y="1773360"/>
            <a:chExt cx="3508920" cy="1800000"/>
          </a:xfrm>
        </p:grpSpPr>
        <p:sp>
          <p:nvSpPr>
            <p:cNvPr id="356" name="Line 6"/>
            <p:cNvSpPr/>
            <p:nvPr/>
          </p:nvSpPr>
          <p:spPr>
            <a:xfrm flipV="1">
              <a:off x="3506400" y="1773360"/>
              <a:ext cx="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2858760" y="321444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858760" y="2158920"/>
              <a:ext cx="2376360" cy="826560"/>
            </a:xfrm>
            <a:prstGeom prst="pie">
              <a:avLst/>
            </a:prstGeom>
            <a:noFill/>
            <a:ln w="2844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3919680" y="186516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1"/>
            <p:cNvSpPr/>
            <p:nvPr/>
          </p:nvSpPr>
          <p:spPr>
            <a:xfrm>
              <a:off x="5300280" y="2009520"/>
              <a:ext cx="77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2"/>
            <p:cNvSpPr/>
            <p:nvPr/>
          </p:nvSpPr>
          <p:spPr>
            <a:xfrm>
              <a:off x="2563200" y="2225520"/>
              <a:ext cx="77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4"/>
          <p:cNvSpPr/>
          <p:nvPr/>
        </p:nvSpPr>
        <p:spPr>
          <a:xfrm>
            <a:off x="390708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6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615-80BF-4C09-AEF1-F6F07E1AE70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89070611-6F97-4BA7-9377-83F61E306EF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971640" y="1124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tung integral dari f(z) 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atas lintasan C  sepanjang kurva y = x</a:t>
            </a:r>
            <a:r>
              <a:rPr b="0" lang="sv-SE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  dari titik ( 0,0 ) ke titik ( 1,1 ).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4"/>
              <p:cNvSpPr txBox="1"/>
              <p:nvPr/>
            </p:nvSpPr>
            <p:spPr>
              <a:xfrm>
                <a:off x="1042920" y="1989000"/>
                <a:ext cx="2448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15"/>
          <p:cNvSpPr/>
          <p:nvPr/>
        </p:nvSpPr>
        <p:spPr>
          <a:xfrm>
            <a:off x="1042920" y="2707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intasan C : z(t) = x(t) + i y(t) = t + i t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dengan 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1108440" y="32835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unan dari z(t) ,  z ‘ (t) = 1+ 2 i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7"/>
              <p:cNvSpPr txBox="1"/>
              <p:nvPr/>
            </p:nvSpPr>
            <p:spPr>
              <a:xfrm>
                <a:off x="1187280" y="4005360"/>
                <a:ext cx="1901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73" name="AutoShape 18"/>
          <p:cNvCxnSpPr/>
          <p:nvPr/>
        </p:nvCxnSpPr>
        <p:spPr>
          <a:xfrm flipH="1" flipV="1" rot="10800000">
            <a:off x="1041480" y="2311560"/>
            <a:ext cx="144720" cy="1953000"/>
          </a:xfrm>
          <a:prstGeom prst="bentConnector3">
            <a:avLst>
              <a:gd name="adj1" fmla="val -158603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187280" y="472428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8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E5D4-7E8C-48A6-B738-F1A61459334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AA74A80D-3FF6-4BC3-BB50-284C0E9066D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yatakan berikut dalam z = z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 garis dari z = 2 + 3i ke z = -2i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 garis dari z = 3 – i ke z = 2 +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 – 3i| = 1 dengan arah berlawanan jarum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 + 2 – i| = 2 dengan arah posi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(0,0) ke 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1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(-1,2) ke 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 integral dari fungsi f(z) atas lintas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2z  + i ( z - 2) dengan C dari 1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2x + i ( x + 2y) dengan C dari 1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Im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)  dengan C dari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8EF-3AB8-4A4A-AAFD-561B058187B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C987286-C7C1-4E5B-99DD-C3B0E014E2C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Bergantung 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Bebas 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1B4-FE4A-4AAC-9F22-DE3E86C214D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AA4D0857-D71F-4A56-8F37-D709E1DB004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1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116000" y="1045080"/>
            <a:ext cx="71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ain D diseb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sambung sederh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ila setiap lintasan tutup sederhana dalam D melingkupi titik-titik pada 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332000" y="2421000"/>
            <a:ext cx="252072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2"/>
          <p:cNvGrpSpPr/>
          <p:nvPr/>
        </p:nvGrpSpPr>
        <p:grpSpPr>
          <a:xfrm>
            <a:off x="1332000" y="4365720"/>
            <a:ext cx="2520720" cy="1368360"/>
            <a:chOff x="1332000" y="4365720"/>
            <a:chExt cx="2520720" cy="1368360"/>
          </a:xfrm>
        </p:grpSpPr>
        <p:sp>
          <p:nvSpPr>
            <p:cNvPr id="388" name="AutoShape 9"/>
            <p:cNvSpPr/>
            <p:nvPr/>
          </p:nvSpPr>
          <p:spPr>
            <a:xfrm>
              <a:off x="1332000" y="4365720"/>
              <a:ext cx="2520720" cy="1368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0"/>
            <p:cNvSpPr/>
            <p:nvPr/>
          </p:nvSpPr>
          <p:spPr>
            <a:xfrm>
              <a:off x="2195280" y="4869000"/>
              <a:ext cx="1368000" cy="431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3"/>
          <p:cNvSpPr/>
          <p:nvPr/>
        </p:nvSpPr>
        <p:spPr>
          <a:xfrm>
            <a:off x="4859280" y="2565360"/>
            <a:ext cx="1513080" cy="609480"/>
          </a:xfr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sambung Seder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5435640" y="4149720"/>
            <a:ext cx="1508040" cy="979560"/>
          </a:xfr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sam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er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24"/>
          <p:cNvGrpSpPr/>
          <p:nvPr/>
        </p:nvGrpSpPr>
        <p:grpSpPr>
          <a:xfrm>
            <a:off x="1405080" y="2612880"/>
            <a:ext cx="1942920" cy="1212840"/>
            <a:chOff x="1405080" y="2612880"/>
            <a:chExt cx="1942920" cy="1212840"/>
          </a:xfrm>
        </p:grpSpPr>
        <p:sp>
          <p:nvSpPr>
            <p:cNvPr id="394" name="Freeform 8"/>
            <p:cNvSpPr/>
            <p:nvPr/>
          </p:nvSpPr>
          <p:spPr>
            <a:xfrm>
              <a:off x="1405080" y="2612880"/>
              <a:ext cx="1942920" cy="121284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1"/>
            <p:cNvSpPr/>
            <p:nvPr/>
          </p:nvSpPr>
          <p:spPr>
            <a:xfrm flipH="1" flipV="1">
              <a:off x="2484360" y="2852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763640" y="4581360"/>
            <a:ext cx="1933560" cy="1019520"/>
            <a:chOff x="1763640" y="4581360"/>
            <a:chExt cx="1933560" cy="1019520"/>
          </a:xfrm>
        </p:grpSpPr>
        <p:sp>
          <p:nvSpPr>
            <p:cNvPr id="397" name="Freeform 11"/>
            <p:cNvSpPr/>
            <p:nvPr/>
          </p:nvSpPr>
          <p:spPr>
            <a:xfrm>
              <a:off x="1763640" y="4581360"/>
              <a:ext cx="1933560" cy="10195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2"/>
            <p:cNvSpPr/>
            <p:nvPr/>
          </p:nvSpPr>
          <p:spPr>
            <a:xfrm>
              <a:off x="2700000" y="55515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26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872-00B9-476C-A45F-F8E793036DC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6AA559CB-9CA8-4EAA-9178-ECD835D9C1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2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971640" y="10515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al f(z) analitik pada domain tersambung sederhana D. C sembarang lintasan pada D yang menghubungkan titik a dan titik b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2"/>
              <p:cNvSpPr txBox="1"/>
              <p:nvPr/>
            </p:nvSpPr>
            <p:spPr>
              <a:xfrm>
                <a:off x="1042920" y="2205000"/>
                <a:ext cx="3168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3"/>
          <p:cNvSpPr/>
          <p:nvPr/>
        </p:nvSpPr>
        <p:spPr>
          <a:xfrm>
            <a:off x="1108800" y="314064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gan F ‘ (z ) = f ( z ) untuk z di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14"/>
          <p:cNvCxnSpPr>
            <a:endCxn id="408" idx="1"/>
          </p:cNvCxnSpPr>
          <p:nvPr/>
        </p:nvCxnSpPr>
        <p:spPr>
          <a:xfrm flipH="1" flipV="1" rot="10800000">
            <a:off x="1041480" y="2561040"/>
            <a:ext cx="144720" cy="1802520"/>
          </a:xfrm>
          <a:prstGeom prst="bentConnector3">
            <a:avLst>
              <a:gd name="adj1" fmla="val -15860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8" name="Text Box 15"/>
          <p:cNvSpPr/>
          <p:nvPr/>
        </p:nvSpPr>
        <p:spPr>
          <a:xfrm>
            <a:off x="1187280" y="386064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but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l Bebas Lintasa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rtinya nilai integral akan sama untuk setiap bentuk lintasan asalkan lintasan mempunyai ujung yang s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51B7-380B-484A-9496-9E0EA0BD6A5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5DDCAE5D-9CB2-4FA0-8158-7E8480C9DED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55640" y="10785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al fungsi f(z) analitik pada D, C lintasan tutup pada D mak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5"/>
              <p:cNvSpPr txBox="1"/>
              <p:nvPr/>
            </p:nvSpPr>
            <p:spPr>
              <a:xfrm>
                <a:off x="755640" y="1700280"/>
                <a:ext cx="201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6" name="Rectangle 7"/>
          <p:cNvSpPr/>
          <p:nvPr/>
        </p:nvSpPr>
        <p:spPr>
          <a:xfrm>
            <a:off x="749160" y="2851560"/>
            <a:ext cx="691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Contoh : Hitung integral f(z) = z sin z pada  lintasan C berupa ruas garis yang menghubungkan dari titik (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,3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) ke titik (2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,-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755640" y="414864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(z) = z sin z : fungsi entire, sehingga analitik pada domain tersambung sederhana  yang memuat lintasan C. Oleh karena itu, integral lintasan dari f(z) tidak bergantung (bebas ) dari  bentuk lintas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8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BFF-5596-4657-A0F2-EED96B27583C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7C95AA75-ABCF-4868-BB17-AFE36E5A113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9"/>
              <p:cNvSpPr txBox="1"/>
              <p:nvPr/>
            </p:nvSpPr>
            <p:spPr>
              <a:xfrm>
                <a:off x="1187280" y="907920"/>
                <a:ext cx="26654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i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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8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2124000" y="2060640"/>
                <a:ext cx="2952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  <m:sub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i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0" name="AutoShape 12"/>
          <p:cNvSpPr/>
          <p:nvPr/>
        </p:nvSpPr>
        <p:spPr>
          <a:xfrm>
            <a:off x="4859280" y="1125360"/>
            <a:ext cx="3745080" cy="1008360"/>
          </a:xfrm>
          <a:prstGeom prst="wedgeRoundRectCallout">
            <a:avLst>
              <a:gd name="adj1" fmla="val -72509"/>
              <a:gd name="adj2" fmla="val -3110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nakan Integral parsia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 = sin z d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= -cos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14"/>
              <p:cNvSpPr txBox="1"/>
              <p:nvPr/>
            </p:nvSpPr>
            <p:spPr>
              <a:xfrm>
                <a:off x="2124000" y="3789360"/>
                <a:ext cx="42483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5"/>
              <p:cNvSpPr txBox="1"/>
              <p:nvPr/>
            </p:nvSpPr>
            <p:spPr>
              <a:xfrm>
                <a:off x="2124000" y="2843280"/>
                <a:ext cx="3600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i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0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1AA-8A70-42EF-9AD8-F7E717D8B37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8F5A89CC-7576-4BFA-A52E-3BD78BA8F14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pakah integral dari f(z) atas lintasan  C bebas lintasan ? Cari nilai integral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 C ; segmen garis dari (-2,1) ke (3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 2z – 3i) dan C lingkaran satuan dengan arah berlawan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xy –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 (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xy –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 C merupakan kurva y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 dari titik ( 0,-3) menuju titik (1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yelesaikan persoalan integral untuk fungsi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kelulusan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4FF-F192-4F92-9A16-2A9FFA3D5CA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57680" y="6237360"/>
            <a:ext cx="357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1D3AABE-9C77-4BED-BC77-4E15E399D2C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2514-EE8A-4290-86AF-A0573009D53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E4AF060-C6C9-4283-9C5B-214E40E2987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Lintasan # 1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6"/>
          <p:cNvCxnSpPr/>
          <p:nvPr/>
        </p:nvCxnSpPr>
        <p:spPr>
          <a:xfrm flipV="1">
            <a:off x="2627280" y="3873240"/>
            <a:ext cx="1944000" cy="1372320"/>
          </a:xfrm>
          <a:prstGeom prst="curvedConnector5">
            <a:avLst>
              <a:gd name="adj1" fmla="val 49990"/>
              <a:gd name="adj2" fmla="val 49986"/>
              <a:gd name="adj3" fmla="val 49990"/>
            </a:avLst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  <p:sp>
        <p:nvSpPr>
          <p:cNvPr id="66" name="Text Box 7"/>
          <p:cNvSpPr/>
          <p:nvPr/>
        </p:nvSpPr>
        <p:spPr>
          <a:xfrm>
            <a:off x="4572000" y="3716280"/>
            <a:ext cx="117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= z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411280" y="5245200"/>
            <a:ext cx="115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 z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639880" y="3284640"/>
            <a:ext cx="3371760" cy="2189160"/>
            <a:chOff x="2639880" y="3284640"/>
            <a:chExt cx="3371760" cy="2189160"/>
          </a:xfrm>
        </p:grpSpPr>
        <p:sp>
          <p:nvSpPr>
            <p:cNvPr id="69" name="Line 10"/>
            <p:cNvSpPr/>
            <p:nvPr/>
          </p:nvSpPr>
          <p:spPr>
            <a:xfrm flipV="1">
              <a:off x="3554280" y="364500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>
              <a:off x="2639880" y="501660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4937040" y="5033880"/>
              <a:ext cx="10746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 = 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3132000" y="3284640"/>
              <a:ext cx="13604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 = y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3724200" y="410220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044720" y="1211760"/>
            <a:ext cx="71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sal  z(t) : I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merupakan fungsi kompleks dengan domain real, I = [ a, b ], maka  fungsi z(t) dinyatak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1044720" y="2133720"/>
                <a:ext cx="36716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971640" y="2655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 merupakan lintasan dari A ke B, notasi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B39C-ACF8-4F99-8336-EE804433ADC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197BD106-AE01-4B2E-BF70-0CD02B7835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1116000" y="107064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mbarkan bentuk lintasan C untuk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–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ang dinyata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2465280" y="2003400"/>
                <a:ext cx="1849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0" name="Text Box 20"/>
          <p:cNvSpPr/>
          <p:nvPr/>
        </p:nvSpPr>
        <p:spPr>
          <a:xfrm>
            <a:off x="2431800" y="250812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(t) =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2"/>
              <p:cNvSpPr txBox="1"/>
              <p:nvPr/>
            </p:nvSpPr>
            <p:spPr>
              <a:xfrm>
                <a:off x="2509920" y="3046320"/>
                <a:ext cx="1198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3" name="Text Box 23"/>
          <p:cNvSpPr/>
          <p:nvPr/>
        </p:nvSpPr>
        <p:spPr>
          <a:xfrm>
            <a:off x="3729960" y="252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5"/>
              <p:cNvSpPr txBox="1"/>
              <p:nvPr/>
            </p:nvSpPr>
            <p:spPr>
              <a:xfrm>
                <a:off x="4297320" y="2349360"/>
                <a:ext cx="1211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6" name="Group 26"/>
          <p:cNvGrpSpPr/>
          <p:nvPr/>
        </p:nvGrpSpPr>
        <p:grpSpPr>
          <a:xfrm>
            <a:off x="3349800" y="3860640"/>
            <a:ext cx="2374560" cy="2016000"/>
            <a:chOff x="3349800" y="3860640"/>
            <a:chExt cx="2374560" cy="2016000"/>
          </a:xfrm>
        </p:grpSpPr>
        <p:sp>
          <p:nvSpPr>
            <p:cNvPr id="97" name="Freeform 27"/>
            <p:cNvSpPr/>
            <p:nvPr/>
          </p:nvSpPr>
          <p:spPr>
            <a:xfrm>
              <a:off x="3708360" y="4508280"/>
              <a:ext cx="1550520" cy="720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 flipV="1">
              <a:off x="4500360" y="386064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>
              <a:off x="3349800" y="52290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0"/>
          <p:cNvSpPr/>
          <p:nvPr/>
        </p:nvSpPr>
        <p:spPr>
          <a:xfrm>
            <a:off x="522144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3708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3708360" y="4508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494160" y="5248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41914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50565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464652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4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AF8-8D72-4CE1-B371-CA30224312E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36FA5BB3-AFB4-4C5E-A20A-14A789B653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Lintasan # 2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332000" y="2205000"/>
                <a:ext cx="4895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1403280" y="2852640"/>
                <a:ext cx="4537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33520" y="3860640"/>
                <a:ext cx="45784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1258920" y="121428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n Integral dari  persamaan lintasan dinyatakan sebagai beriku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ACE-62D0-4C19-8855-0D36FFDD8B7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6E184781-60B3-4D9F-978E-55E5F70A80F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6160" y="2708280"/>
                <a:ext cx="1440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2975040" y="2795400"/>
            <a:ext cx="321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1116000" y="1916280"/>
                <a:ext cx="4680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10"/>
          <p:cNvSpPr/>
          <p:nvPr/>
        </p:nvSpPr>
        <p:spPr>
          <a:xfrm>
            <a:off x="1033920" y="1267560"/>
            <a:ext cx="70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turunan dan integral dari persamaan lintasan beriku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701800" y="2735280"/>
                <a:ext cx="13417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3276720" y="3213000"/>
                <a:ext cx="23032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5"/>
              <p:cNvSpPr txBox="1"/>
              <p:nvPr/>
            </p:nvSpPr>
            <p:spPr>
              <a:xfrm>
                <a:off x="3274920" y="4365720"/>
                <a:ext cx="3097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046160" y="3166920"/>
                <a:ext cx="20131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2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6FD3-95DB-4D46-8F46-A0D21D78C77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200461BC-7A98-4CD1-A4EA-D18D552C13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Jenis Lintasan 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468520" y="4209840"/>
            <a:ext cx="321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4449600" y="301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824040" y="1479600"/>
            <a:ext cx="48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Lintasan Bu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: bila ujung lintasan tidak berim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1116000" y="4797360"/>
            <a:ext cx="720720" cy="5763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2890800" y="4287960"/>
            <a:ext cx="817560" cy="12286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1476360" y="468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692440" y="425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837000" y="2168640"/>
            <a:ext cx="400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Lintasan Tu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: bila ujung lintaan beim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326240" y="2887560"/>
            <a:ext cx="37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. Lintasan Tutup 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335240" y="3247920"/>
            <a:ext cx="43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. Lintasan Tutup Tidak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5"/>
          <p:cNvGrpSpPr/>
          <p:nvPr/>
        </p:nvGrpSpPr>
        <p:grpSpPr>
          <a:xfrm>
            <a:off x="4811760" y="4435560"/>
            <a:ext cx="912600" cy="1009440"/>
            <a:chOff x="4811760" y="4435560"/>
            <a:chExt cx="912600" cy="1009440"/>
          </a:xfrm>
        </p:grpSpPr>
        <p:sp>
          <p:nvSpPr>
            <p:cNvPr id="151" name="Freeform 26"/>
            <p:cNvSpPr/>
            <p:nvPr/>
          </p:nvSpPr>
          <p:spPr>
            <a:xfrm>
              <a:off x="4811760" y="4435560"/>
              <a:ext cx="912600" cy="100944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 flipV="1">
              <a:off x="5376240" y="4687920"/>
              <a:ext cx="14292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5357520" y="4365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6792840" y="4305240"/>
            <a:ext cx="1067040" cy="1679760"/>
            <a:chOff x="6792840" y="4305240"/>
            <a:chExt cx="1067040" cy="1679760"/>
          </a:xfrm>
        </p:grpSpPr>
        <p:sp>
          <p:nvSpPr>
            <p:cNvPr id="155" name="Freeform 30"/>
            <p:cNvSpPr/>
            <p:nvPr/>
          </p:nvSpPr>
          <p:spPr>
            <a:xfrm>
              <a:off x="6792840" y="4305240"/>
              <a:ext cx="1067040" cy="16797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 flipV="1">
              <a:off x="6877080" y="4869000"/>
              <a:ext cx="7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32"/>
          <p:cNvSpPr/>
          <p:nvPr/>
        </p:nvSpPr>
        <p:spPr>
          <a:xfrm>
            <a:off x="6510240" y="4797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5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4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9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E854-18DE-45C4-A15C-EBC7C34D167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AA379EFC-7B02-42C5-B7EF-4D32F8CAB2C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Integral Lintasan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57120" y="99756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dari fungsi kompleks f(z) atas lintasan C diseb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lintas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tau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gar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tau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cont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an dinyata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42920" y="1844640"/>
                <a:ext cx="1297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3924360" y="1830240"/>
                <a:ext cx="122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AutoShape 9"/>
          <p:cNvSpPr/>
          <p:nvPr/>
        </p:nvSpPr>
        <p:spPr>
          <a:xfrm>
            <a:off x="6372360" y="2060640"/>
            <a:ext cx="1584360" cy="720720"/>
          </a:xfrm>
          <a:prstGeom prst="wedgeRoundRectCallout">
            <a:avLst>
              <a:gd name="adj1" fmla="val -122342"/>
              <a:gd name="adj2" fmla="val -4339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lintasan tu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4356000" y="5013360"/>
                <a:ext cx="450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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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2"/>
              <p:cNvSpPr txBox="1"/>
              <p:nvPr/>
            </p:nvSpPr>
            <p:spPr>
              <a:xfrm>
                <a:off x="4427640" y="3119400"/>
                <a:ext cx="3913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684360" y="3573360"/>
                <a:ext cx="2563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Text Box 16"/>
          <p:cNvSpPr/>
          <p:nvPr/>
        </p:nvSpPr>
        <p:spPr>
          <a:xfrm>
            <a:off x="539640" y="299736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ifat integral lintas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"/>
          <p:cNvSpPr/>
          <p:nvPr/>
        </p:nvSpPr>
        <p:spPr>
          <a:xfrm>
            <a:off x="1185840" y="4778280"/>
            <a:ext cx="1728720" cy="3128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40520" y="4799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2901240" y="4581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1"/>
          <p:cNvSpPr/>
          <p:nvPr/>
        </p:nvSpPr>
        <p:spPr>
          <a:xfrm>
            <a:off x="4932360" y="4191120"/>
            <a:ext cx="2448000" cy="442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515016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3"/>
          <p:cNvSpPr/>
          <p:nvPr/>
        </p:nvSpPr>
        <p:spPr>
          <a:xfrm>
            <a:off x="4932360" y="4191120"/>
            <a:ext cx="1152360" cy="44280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351040" y="3789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6884640" y="39132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5347 0.125 0.34445 C 0.125 0.53403 0.06892 0.68889 3.05556E-006 0.68889 C -0.0691 0.68889 -0.125 0.53403 -0.125 0.34445 C -0.125 0.15347 -0.0691 -1.11111E-006 3.05556E-006 -1.11111E-006 Z">
                                      <p:cBhvr>
                                        <p:cTn id="20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2:15:01Z</dcterms:modified>
  <cp:revision>78</cp:revision>
  <dc:subject/>
  <dc:title>Slide 1</dc:title>
</cp:coreProperties>
</file>