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C3A-D387-4D35-9F69-FCDD5028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CEB-631A-4E1F-A1C5-23273AB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B8C-8D4C-4449-90EA-A31E852E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918-DE6A-477F-8EE3-27F64200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A93-E2C2-4ADD-A050-6722246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67C-D130-497C-873F-90CB85B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FFD-8E39-441F-8314-69E59B11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B31-FCF7-4B7F-B73B-7895CA0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D0E-924A-4652-A63C-877E869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BC-EAA6-43A0-9800-67BB197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F02-0DBA-4AB0-A80A-D6A2BB6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39B-F6B7-47A4-AF73-95B8AFB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1CCC5-6821-45EF-8857-E9114B9F4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77997-EFF1-4DD8-9ED1-871A5A8322D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00:36Z</dcterms:created>
  <dc:creator>최봉수</dc:creator>
  <dc:description/>
  <dc:language>en-US</dc:language>
  <cp:lastModifiedBy>군만두 맛있다</cp:lastModifiedBy>
  <dcterms:modified xsi:type="dcterms:W3CDTF">2023-07-12T05:44:51Z</dcterms:modified>
  <cp:revision>2</cp:revision>
  <dc:subject/>
  <dc:title>슬라이드 1</dc:title>
</cp:coreProperties>
</file>