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54D-3B2E-4085-B940-7548943D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5B0-3CAB-4638-A21F-5695A388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6C0-202B-4C3A-B651-D99F76DC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DAC-5E51-40EB-8CB5-22BF48CE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727-0289-48F2-BF33-F03D3ADA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3A6-48B3-4940-8128-7BE91542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24B-2ED8-45A1-8F43-511103B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AF0-31AF-4690-BE9B-AE44C002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687-6A50-4D39-839A-27649B52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190-D47F-4CC3-8B6F-F9FED46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A4C-C268-4AC0-850D-6B71C685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A93-DD41-44DA-A0AE-7334D56A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E451E-3AE5-4275-B252-285726DF3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482EE-0D2B-4ACF-BCF3-5998AE88341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00:36Z</dcterms:created>
  <dc:creator>최봉수</dc:creator>
  <dc:description/>
  <dc:language>en-US</dc:language>
  <cp:lastModifiedBy>군만두 맛있다</cp:lastModifiedBy>
  <dcterms:modified xsi:type="dcterms:W3CDTF">2023-07-12T05:44:51Z</dcterms:modified>
  <cp:revision>2</cp:revision>
  <dc:subject/>
  <dc:title>슬라이드 1</dc:title>
</cp:coreProperties>
</file>