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104D-B6B8-4EBE-9302-97E559FFA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56C5-179A-4748-806E-C1685A10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6DA2-EBFF-4465-9D12-BB722CF8A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B6D4-34BC-42E2-8D60-33C2F3FBD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9095-A21A-439D-8361-5B1EEB5E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16D0-04C3-46DE-A3F7-8F5FDA0A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2846-E57E-42BF-BA9A-22E06ED0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BEB2-4FF3-4FCE-9F12-18F8CEE9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D240-FF2B-4C9F-A70D-AC00EAC2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7DFA-AC9A-4F7B-9F5A-A090E829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4B0E-7FEA-47F4-882E-287838B7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31D1-89AB-40BE-96C6-D49C6D27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DAD53B-4E93-4B95-934D-B7770F2148F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623B90-B2DE-471E-BDBC-467C26AAB01A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5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5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5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5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5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5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5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5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4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" name="Picture 14" descr=""/>
          <p:cNvPicPr/>
          <p:nvPr/>
        </p:nvPicPr>
        <p:blipFill>
          <a:blip r:embed="rId10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4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1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4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47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50" name="Picture 10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54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7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60" name="Picture 10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0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1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0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1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4:38:29Z</dcterms:created>
  <dc:creator>최봉수</dc:creator>
  <dc:description/>
  <dc:language>en-US</dc:language>
  <cp:lastModifiedBy>맛있다 군만두</cp:lastModifiedBy>
  <dcterms:modified xsi:type="dcterms:W3CDTF">2024-10-01T02:53:49Z</dcterms:modified>
  <cp:revision>5</cp:revision>
  <dc:subject/>
  <dc:title>슬라이드 1</dc:title>
</cp:coreProperties>
</file>