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692-6D13-42AC-A7EB-2B4C4A97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D8A-EA13-4F74-832F-BE46797E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153-2DE3-491B-917C-736904EB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1D2-509F-45DC-8D7D-8F5CBC95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926-B47F-4C30-A303-EA300780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19A-BCCC-466A-BBD2-74739F99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E9A-1474-493E-A64E-3226270E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C42-54F7-4E97-8897-70AB7403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B78-D420-4913-934F-3544B7A1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B8A-EF17-499F-BE95-56E4EB2B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15A-6F81-45D6-A1F1-B8AFB069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440-43BE-48E6-BA4E-809FDA1E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788B8-A9E0-41E0-B3DB-0A5A9D147D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F3365-BED2-4404-B7AF-82A7411F827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14" descr=""/>
          <p:cNvPicPr/>
          <p:nvPr/>
        </p:nvPicPr>
        <p:blipFill>
          <a:blip r:embed="rId10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1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38:29Z</dcterms:created>
  <dc:creator>최봉수</dc:creator>
  <dc:description/>
  <dc:language>en-US</dc:language>
  <cp:lastModifiedBy>맛있다 군만두</cp:lastModifiedBy>
  <dcterms:modified xsi:type="dcterms:W3CDTF">2024-10-01T02:53:49Z</dcterms:modified>
  <cp:revision>5</cp:revision>
  <dc:subject/>
  <dc:title>슬라이드 1</dc:title>
</cp:coreProperties>
</file>