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C88-534B-4703-B05F-4EB82D71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31F-00AC-434B-B2D0-82466C11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49C-12B8-4C79-A50E-24872403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3F2-5B3E-44F2-A4ED-3D39E561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861-1C5D-4723-90C6-F0EE6967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7E5-90AB-40E0-9F6B-CF6F6418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0B8-F335-4241-90FC-EDD7B45D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A54-9856-4608-A5E3-4B087DA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F71-3E1D-455C-87EC-2275E9C7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C4B-D0E6-4B3A-A0B4-57149959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9F1-431A-44D6-B0E2-D9D40264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A0E-BE0E-45FE-A824-C0CE78B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3C1DD-0603-4908-8E65-0B1FAF2F28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4115D-840B-4897-9F94-DB7081D8ECD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7:20:29Z</dcterms:created>
  <dc:creator>최봉수</dc:creator>
  <dc:description/>
  <dc:language>en-US</dc:language>
  <cp:lastModifiedBy>맛있다 군만두</cp:lastModifiedBy>
  <dcterms:modified xsi:type="dcterms:W3CDTF">2023-07-13T08:01:12Z</dcterms:modified>
  <cp:revision>3</cp:revision>
  <dc:subject/>
  <dc:title>슬라이드 1</dc:title>
</cp:coreProperties>
</file>