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8F09-ED4B-4040-80D8-649C63F4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7C74-E9F0-49B2-A8D5-F7C3AD8A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43A5-8436-4CD1-B9D8-E904F93E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4A9F-ADB5-4B37-AC2A-ECDBE0119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B67F-8043-48BC-8CDB-08E62A72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0BB7-06AB-43CA-AC40-E8C6C184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F751-57A0-42EE-9363-4701CE11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2B74-77F3-49FE-AECD-5EFD7FE7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5FF7-FB82-4F95-B35D-B5F30799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7669-0436-4EBE-9C0F-B2D0A953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02D3-6681-4160-BBEA-A3866867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6E16-18D8-4784-89E5-DE7DC9CA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FC1DCC-A39B-4774-B92C-C0BEF9E13E9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AE68AE-ACB3-4306-872E-A9BD81365D2F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7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40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4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47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50" name="Picture 10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54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7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60" name="Picture 10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0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1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0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1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07:20:29Z</dcterms:created>
  <dc:creator>최봉수</dc:creator>
  <dc:description/>
  <dc:language>en-US</dc:language>
  <cp:lastModifiedBy>맛있다 군만두</cp:lastModifiedBy>
  <dcterms:modified xsi:type="dcterms:W3CDTF">2023-07-13T08:01:12Z</dcterms:modified>
  <cp:revision>3</cp:revision>
  <dc:subject/>
  <dc:title>슬라이드 1</dc:title>
</cp:coreProperties>
</file>