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4BA-9A19-4B53-BF9D-BCBA2766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EE0-4CFF-4ECA-897A-10BDD354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D6B-BBA2-42CB-9D65-4590D563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262-9E94-49A7-B75A-ADCAF778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BE9D-9510-496D-A726-01C9333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F9FF-605A-429A-9EDC-980437A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C5F-CE4F-4F97-AD82-E1C1948A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2683-37A6-4251-ACF2-30197A6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2EE1-8C1D-4647-B467-2C0AFEB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296-A500-48E1-AE85-AAAFECC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A712-AEE5-4C8C-BF98-46E9FE8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AEC-DC71-45BB-93DB-913DB03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02B-29AA-41FE-91E2-E0BBFD65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EA5-1604-4F4A-A8F8-5D8F532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36F8-879C-4B52-A103-9815A952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9479-A375-4651-817F-ADE15C23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94CB-4137-4F81-AEC2-7C2899AD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72D-009B-459A-81AD-1E8FA58D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236-3587-4265-AD06-D0CD753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CE5-BCA9-45A0-B251-ED70721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DB3-445E-4768-A3F2-111B1D1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7EB-15AE-4210-B12F-AD1385D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81A-0197-4258-ACAE-CC31424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D14-2505-4092-90C3-7A6D7EF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6F8F-F98E-41E9-A1D2-5FEC3B3A4FC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2B1B-C5BB-4EEE-A8FD-DC438A6E2F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689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Helve"/>
              </a:rPr>
              <a:t>C9: CHÖÙC NAÊNG KIEÅM TR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1-Khaùi nieäm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Ño löôøng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ieâu chuaå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Sai leäch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465120" indent="-290520">
              <a:lnSpc>
                <a:spcPct val="150000"/>
              </a:lnSpc>
              <a:spcBef>
                <a:spcPts val="1001"/>
              </a:spcBef>
              <a:buClr>
                <a:srgbClr val="ff8b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aàn thieát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1f08"/>
                </a:solidFill>
                <a:latin typeface="VNI-Times"/>
              </a:rPr>
              <a:t>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2-Tieán trình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0880" y="1447920"/>
            <a:ext cx="8457840" cy="4951800"/>
            <a:chOff x="380880" y="1447920"/>
            <a:chExt cx="8457840" cy="4951800"/>
          </a:xfrm>
        </p:grpSpPr>
        <p:sp>
          <p:nvSpPr>
            <p:cNvPr id="354" name=""/>
            <p:cNvSpPr/>
            <p:nvPr/>
          </p:nvSpPr>
          <p:spPr>
            <a:xfrm>
              <a:off x="380880" y="1447920"/>
              <a:ext cx="17802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Laäp 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eáhoaïc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ieåm tra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96400" y="1447920"/>
              <a:ext cx="17802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Ño löôøng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keát quaû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thöïc teá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0480" y="1447920"/>
              <a:ext cx="169200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So saù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t.chuaån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quy ñò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6360" y="1447920"/>
              <a:ext cx="1602360" cy="200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Xaùcñòn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möùc ñoä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VNI-Times"/>
                </a:rPr>
                <a:t>sai leäch</a:t>
              </a:r>
              <a:endParaRPr b="0" lang="en-US" sz="36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61080" y="2560320"/>
              <a:ext cx="53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2480" y="25603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70520" y="4287960"/>
              <a:ext cx="8367840" cy="2111760"/>
              <a:chOff x="470520" y="4287960"/>
              <a:chExt cx="8367840" cy="2111760"/>
            </a:xfrm>
          </p:grpSpPr>
          <p:sp>
            <p:nvSpPr>
              <p:cNvPr id="361" name=""/>
              <p:cNvSpPr/>
              <p:nvPr/>
            </p:nvSpPr>
            <p:spPr>
              <a:xfrm>
                <a:off x="470520" y="4287960"/>
                <a:ext cx="169056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Caùc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h.ñoäng 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96400" y="4287960"/>
                <a:ext cx="178020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oå chöùc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h.hieän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10120" y="4287960"/>
                <a:ext cx="1692000" cy="21117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Laäp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k.hoaïc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ñ.chæn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36000" y="4287960"/>
                <a:ext cx="1602360" cy="19998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Tìm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n.nhaân 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ffff"/>
                    </a:solidFill>
                    <a:latin typeface="VNI-Times"/>
                  </a:rPr>
                  <a:t>sai leäch</a:t>
                </a:r>
                <a:endParaRPr b="0" lang="en-US" sz="36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161080" y="5398920"/>
                <a:ext cx="534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02120" y="539892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6600" y="539892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476960" y="2560320"/>
              <a:ext cx="533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37360" y="3449520"/>
              <a:ext cx="3240" cy="83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5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3-Aùp duïng hình thöùc k.tra coù h/quaû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990720"/>
          <a:ext cx="8381880" cy="5410080"/>
        </p:xfrm>
        <a:graphic>
          <a:graphicData uri="http://schemas.openxmlformats.org/drawingml/2006/table">
            <a:tbl>
              <a:tblPr/>
              <a:tblGrid>
                <a:gridCol w="4113000"/>
                <a:gridCol w="4268880"/>
              </a:tblGrid>
              <a:tr h="108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5120" indent="-46512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1-Theo caùch thöùc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röïc tieáp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giaùn tieáp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06440" indent="-40644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2-Theo taùc duïng cuûa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röôùc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sau 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3-Theo soá löôïng cuûa ñoái töôïng k/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oøan boä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choïn maãu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4-Theo phaïm vi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noäi boâ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öø beân ngoøai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5-Theo möùc ñoä lieân tuïc cuûa kieåm tra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höôøng xuyeân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ñònh kyø ?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29600" y="3049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NI-Aptima"/>
              </a:rPr>
              <a:t> 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4-Heä thoáng kieåm tra trong D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339920"/>
          <a:ext cx="8381880" cy="4788000"/>
        </p:xfrm>
        <a:graphic>
          <a:graphicData uri="http://schemas.openxmlformats.org/drawingml/2006/table">
            <a:tbl>
              <a:tblPr/>
              <a:tblGrid>
                <a:gridCol w="2382840"/>
                <a:gridCol w="5999040"/>
              </a:tblGrid>
              <a:tr h="38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1- Kieåm tra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taøi chính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ngaân saùch (thu, chi t.c)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Phaân tích taøi chính keá toùa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Ph/tích keát quaû h.ñoäng sxkd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ieåm toùa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2- Kieåm tra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taùc 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    </a:t>
                      </a:r>
                      <a:r>
                        <a:rPr b="1" i="1" lang="en-US" sz="3600" spc="-1" strike="noStrike">
                          <a:solidFill>
                            <a:srgbClr val="ffcc00"/>
                          </a:solidFill>
                          <a:latin typeface="VNI-Times"/>
                        </a:rPr>
                        <a:t>nghieäp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haønh chính (nhaân söï)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kyõ thuaät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 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VNI-Times"/>
                        </a:rPr>
                        <a:t>KT thoâng tin</a:t>
                      </a:r>
                      <a:endParaRPr b="0" lang="en-US" sz="3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VNI-Times"/>
              </a:rPr>
              <a:t>5-Ñeå cho h.ñoäng kieåm tra coù hieäu qua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ính chính xaùc trong ño löôøng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i phí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ính linh hoïat trong kieåm tra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T/chuaån k/tra h/lyù vaø k/hôïp nhieàu t/c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uù yù nhöõng nôi troïng yeáu, ñoàng thôøi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khoâng boû soùt nhöõng choã khaùc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-263880">
              <a:lnSpc>
                <a:spcPct val="11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Muïc ñích cuoái cuøng cuûa k.tra laø ñieàu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38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VNI-Times"/>
              </a:rPr>
              <a:t>chænh ñeå nhaèm ñaït ñeán söï mong ñôïi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153280" y="68580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NI-Times"/>
              </a:rPr>
              <a:t>Ñeà taøi tieåu luaän vaø thuyeát trình nhoùm-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NI-Times"/>
              </a:rPr>
              <a:t>Töï choïn 1 trong caùc ñeà taøi sau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NI-Times"/>
              </a:rPr>
              <a:t>1-Hoaït ñoäng kieåm tra trong caùc toå chöùc/doqanh nghieäp-Thöïc traïng vaø kieán ngh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NI-Times"/>
              </a:rPr>
              <a:t>2-Heä thoáng kieåm tra trong caùc toå chöùc/doanh nghieäp-Thöïc traïng vaø giaûi phaù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NI-Times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PTOP</cp:lastModifiedBy>
  <dcterms:modified xsi:type="dcterms:W3CDTF">2010-02-21T12:04:2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