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6B2-3B84-4F0A-8B21-6C219EF1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CDA-2BC6-4BDB-B032-41F19269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89F-96B7-4369-95A5-35A38FF8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D1A-5341-437D-914B-01A6B59D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0D97-0821-4738-8C64-426432DF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69C9-B152-474F-B5D1-F101540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365B-47E1-47A0-AA8D-3E75F60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8FC8-9476-422B-B286-69871DFF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E488-9EE9-4F41-9A29-CED4E838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3C94-DC56-4F03-A981-FD495DDB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39AC-6D6D-40F2-9AD6-865C3A89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884-C1F7-49E0-A3D9-502EA95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8D12-B0E3-40BC-B8A9-5A6BFB1B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4330-9CF4-47A7-BF95-C02CC361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FE0F-8C7E-4E54-B3CA-07AF7A6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8A4-A044-4FEF-A658-FCEAC053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A8F0-4F1C-4AF3-BEA5-8142B3BC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E18-FEBB-403C-8A56-45B70CE1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D8A-BC99-4395-88A7-96555C2C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F51-CE7C-4367-8EDC-2B96186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499-CCB8-434A-A1AB-5E4C36F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6AD-E2BE-44FA-8081-54105BD1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335-41EF-4AB7-8D4F-32A296F2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EA8-FA0C-4CC0-BF1C-CF3FF0B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0E34-63A5-410F-83D2-21E1B24104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7B15-0BE7-4EF2-A672-F635F9AF572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89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C9: CHÖÙC NAÊNG KIEÅM TR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1-Khaùi nieäm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Ño löôø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ieâu chuaå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Sai leäch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aàn thieát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1f08"/>
                </a:solidFill>
                <a:latin typeface="VNI-Times"/>
              </a:rPr>
              <a:t> 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2-Tieán trình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0880" y="1447920"/>
            <a:ext cx="8457840" cy="4951800"/>
            <a:chOff x="380880" y="1447920"/>
            <a:chExt cx="8457840" cy="4951800"/>
          </a:xfrm>
        </p:grpSpPr>
        <p:sp>
          <p:nvSpPr>
            <p:cNvPr id="354" name=""/>
            <p:cNvSpPr/>
            <p:nvPr/>
          </p:nvSpPr>
          <p:spPr>
            <a:xfrm>
              <a:off x="380880" y="1447920"/>
              <a:ext cx="178020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Laäp 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keáhoaïc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kieåm tra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96400" y="1447920"/>
              <a:ext cx="178020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Ño löôøng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keát quaû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thöïc teá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0480" y="1447920"/>
              <a:ext cx="169200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So saùn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t.chuaån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quy ñòn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36360" y="1447920"/>
              <a:ext cx="160236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Xaùcñòn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möùc ñoä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sai leäc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61080" y="2560320"/>
              <a:ext cx="534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2480" y="2560320"/>
              <a:ext cx="53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70520" y="4287960"/>
              <a:ext cx="8367840" cy="2111760"/>
              <a:chOff x="470520" y="4287960"/>
              <a:chExt cx="8367840" cy="2111760"/>
            </a:xfrm>
          </p:grpSpPr>
          <p:sp>
            <p:nvSpPr>
              <p:cNvPr id="361" name=""/>
              <p:cNvSpPr/>
              <p:nvPr/>
            </p:nvSpPr>
            <p:spPr>
              <a:xfrm>
                <a:off x="470520" y="4287960"/>
                <a:ext cx="1690560" cy="19998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Caùc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h.ñoäng 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ñ.chæn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96400" y="4287960"/>
                <a:ext cx="1780200" cy="19998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Toå chöùc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th.hieän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ñ.chæn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10120" y="4287960"/>
                <a:ext cx="1692000" cy="21117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Laäp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k.hoaïc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ñ.chæn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36000" y="4287960"/>
                <a:ext cx="1602360" cy="19998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Tìm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n.nhaân 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sai leäc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161080" y="5398920"/>
                <a:ext cx="534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02120" y="539892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6600" y="539892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4476960" y="2560320"/>
              <a:ext cx="533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37360" y="3449520"/>
              <a:ext cx="3240" cy="83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5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3-Aùp duïng hình thöùc k.tra coù h/quaû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990720"/>
          <a:ext cx="8381880" cy="5410080"/>
        </p:xfrm>
        <a:graphic>
          <a:graphicData uri="http://schemas.openxmlformats.org/drawingml/2006/table">
            <a:tbl>
              <a:tblPr/>
              <a:tblGrid>
                <a:gridCol w="4113000"/>
                <a:gridCol w="4268880"/>
              </a:tblGrid>
              <a:tr h="108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5120" indent="-46512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1-Theo caùch thöùc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röïc tieáp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giaùn tieáp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 indent="-40644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2-Theo taùc duïng cuûa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röôùc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sau 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3-Theo soá löôïng cuûa ñoái töôïng k/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oøan boä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choïn maãu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4-Theo phaïm vi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noäi boâ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öø beân ngoøai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5-Theo möùc ñoä lieân tuïc cuûa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höôøng xuyeân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ñònh kyø 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229600" y="3049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Aptima"/>
              </a:rPr>
              <a:t> 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4-Heä thoáng kieåm tra trong D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339920"/>
          <a:ext cx="8381880" cy="4788000"/>
        </p:xfrm>
        <a:graphic>
          <a:graphicData uri="http://schemas.openxmlformats.org/drawingml/2006/table">
            <a:tbl>
              <a:tblPr/>
              <a:tblGrid>
                <a:gridCol w="2382840"/>
                <a:gridCol w="5999040"/>
              </a:tblGrid>
              <a:tr h="38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1- Kieåm tra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    </a:t>
                      </a: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taøi chín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ngaân saùch (thu, chi t.c)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Phaân tích taøi chính keá toùan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Ph/tích keát quaû h.ñoäng sxkd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ieåm toùan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2- Kieåm tra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    </a:t>
                      </a: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taùc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    </a:t>
                      </a: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nghieä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haønh chính (nhaân söï)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kyõ thuaät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hoâng tin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5-Ñeå cho h.ñoäng kieåm tra coù hieäu quaû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ính chính xaùc trong ño löôøng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hi phí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ính linh hoïat trong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/chuaån k/tra h/lyù vaø k/hôïp nhieàu t/c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huù yù nhöõng nôi troïng yeáu, ñoàng thôøi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khoâng boû soùt nhöõng choã khaùc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Muïc ñích cuoái cuøng cuûa k.tra laø ñieàu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hænh ñeå nhaèm ñaït ñeán söï mong ñôïi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153280" y="68580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NI-Times"/>
              </a:rPr>
              <a:t>Ñeà taøi tieåu luaän vaø thuyeát trình nhoùm-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NI-Times"/>
              </a:rPr>
              <a:t>Töï choïn 1 trong caùc ñeà taøi sau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NI-Times"/>
              </a:rPr>
              <a:t>1-Hoaït ñoäng kieåm tra trong caùc toå chöùc/doqanh nghieäp-Thöïc traïng vaø kieán ngh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NI-Times"/>
              </a:rPr>
              <a:t>2-Heä thoáng kieåm tra trong caùc toå chöùc/doanh nghieäp-Thöïc traïng vaø giaûi phaù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Times"/>
              </a:rPr>
              <a:t>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PTOP</cp:lastModifiedBy>
  <dcterms:modified xsi:type="dcterms:W3CDTF">2010-02-21T12:04:2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