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DD1-7987-4A37-9A20-99644431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487-F288-47EA-BF74-EFC016BA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75F-8F8A-4E83-9294-1DB1567F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807-B095-4872-89F7-A65C498B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49B-C492-4448-9E07-C81A0C3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04D-F446-4F22-908B-897140E4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80E-FEF2-48DB-966D-2F5C2E2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13E-8831-4AD1-ABCF-62503A5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8F6-84CF-4F4A-96AB-26F0262E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1A8-4A6E-4B48-9177-96D9807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99A-3748-4559-8D24-4CAE31D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5B0-9D42-4D32-90AE-B47BD4F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CC50-54AB-45CF-8121-B9429A189A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23880" y="106668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Picture Sto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Kristen ITC"/>
              </a:rPr>
              <a:t>(text mapping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33960" y="3657600"/>
            <a:ext cx="25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Kristen ITC"/>
              </a:rPr>
              <a:t>Let’s Draw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514600" y="5029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8580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Draw a SIMPLE PICTURE using penc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Pencil yellow.gif"/>
          <p:cNvPicPr/>
          <p:nvPr/>
        </p:nvPicPr>
        <p:blipFill>
          <a:blip r:embed="rId1"/>
          <a:stretch/>
        </p:blipFill>
        <p:spPr>
          <a:xfrm>
            <a:off x="304920" y="228600"/>
            <a:ext cx="239760" cy="1176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Big Bad Wolf 01.gif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240"/>
                            </p:stCondLst>
                            <p:childTnLst>
                              <p:par>
                                <p:cTn id="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219320" y="609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rite along the lines using 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Big Bad Wolf 01.gif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Big Bad Wolf 01.gif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ig Bad Wolf 01.gif"/>
          <p:cNvPicPr/>
          <p:nvPr/>
        </p:nvPicPr>
        <p:blipFill>
          <a:blip r:embed="rId3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g Bad Wolf 01.gif"/>
          <p:cNvPicPr/>
          <p:nvPr/>
        </p:nvPicPr>
        <p:blipFill>
          <a:blip r:embed="rId4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Big Bad Wolf 01.gif"/>
          <p:cNvPicPr/>
          <p:nvPr/>
        </p:nvPicPr>
        <p:blipFill>
          <a:blip r:embed="rId5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Big Bad Wolf 01.gif"/>
          <p:cNvPicPr/>
          <p:nvPr/>
        </p:nvPicPr>
        <p:blipFill>
          <a:blip r:embed="rId6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 Bad Wolf 01.gif"/>
          <p:cNvPicPr/>
          <p:nvPr/>
        </p:nvPicPr>
        <p:blipFill>
          <a:blip r:embed="rId7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Big Bad Wolf 01.gif"/>
          <p:cNvPicPr/>
          <p:nvPr/>
        </p:nvPicPr>
        <p:blipFill>
          <a:blip r:embed="rId8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ig Bad Wolf 01.gif"/>
          <p:cNvPicPr/>
          <p:nvPr/>
        </p:nvPicPr>
        <p:blipFill>
          <a:blip r:embed="rId9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Big Bad Wolf 01.gif"/>
          <p:cNvPicPr/>
          <p:nvPr/>
        </p:nvPicPr>
        <p:blipFill>
          <a:blip r:embed="rId10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Big Bad Wolf 01.gif"/>
          <p:cNvPicPr/>
          <p:nvPr/>
        </p:nvPicPr>
        <p:blipFill>
          <a:blip r:embed="rId11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Pencil yellow.gif"/>
          <p:cNvPicPr/>
          <p:nvPr/>
        </p:nvPicPr>
        <p:blipFill>
          <a:blip r:embed="rId12"/>
          <a:stretch/>
        </p:blipFill>
        <p:spPr>
          <a:xfrm>
            <a:off x="228600" y="304920"/>
            <a:ext cx="990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12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12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12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12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12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119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12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12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12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212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8288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rase the penc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Big Bad Wolf 01.gif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ig Bad Wolf 01.gif"/>
          <p:cNvPicPr/>
          <p:nvPr/>
        </p:nvPicPr>
        <p:blipFill>
          <a:blip r:embed="rId2"/>
          <a:stretch/>
        </p:blipFill>
        <p:spPr>
          <a:xfrm>
            <a:off x="914400" y="12193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Pencil yellow.gif"/>
          <p:cNvPicPr/>
          <p:nvPr/>
        </p:nvPicPr>
        <p:blipFill>
          <a:blip r:embed="rId3"/>
          <a:stretch/>
        </p:blipFill>
        <p:spPr>
          <a:xfrm>
            <a:off x="457200" y="304920"/>
            <a:ext cx="13716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g Bad Wolf 12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2:09:29Z</dcterms:created>
  <dc:creator>Jennifer Yong</dc:creator>
  <dc:description/>
  <dc:language>en-US</dc:language>
  <cp:lastModifiedBy>Jennifer Yong</cp:lastModifiedBy>
  <dcterms:modified xsi:type="dcterms:W3CDTF">2009-07-17T02:30:39Z</dcterms:modified>
  <cp:revision>3</cp:revision>
  <dc:subject/>
  <dc:title>Slide 1</dc:title>
</cp:coreProperties>
</file>