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DBE-A9D5-4F04-A4F0-BF8F9309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E21-0FF8-4548-ABE4-CE497AFB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3DD-3F81-479D-87D3-86D85781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127-A8F9-41EE-B4AD-A99CF880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07E-10D0-421B-9C1D-64DD22B2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389-D162-4A5F-BBF3-11ECE59D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732-E6E6-4AE5-B0FF-5C780D04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723-3C13-4C45-9700-6BB852F4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941-9C26-4BD0-92FC-511E1BD7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7AD-29A2-4B9B-891D-3F13A2FE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E90-E257-45BF-936D-603448D8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E40-3030-4949-9097-18A5C96E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4A80-D310-4F19-BB3E-DDD585541C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23880" y="106668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Kristen ITC"/>
              </a:rPr>
              <a:t>Picture Stor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Kristen ITC"/>
              </a:rPr>
              <a:t>(text mapping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33960" y="3657600"/>
            <a:ext cx="25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Let’s Draw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514600" y="5029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ed by Jennifer Y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ing@jenniferyo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85800" y="533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raw a SIMPLE PICTURE using penc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Pencil yellow.gif"/>
          <p:cNvPicPr/>
          <p:nvPr/>
        </p:nvPicPr>
        <p:blipFill>
          <a:blip r:embed="rId1"/>
          <a:stretch/>
        </p:blipFill>
        <p:spPr>
          <a:xfrm>
            <a:off x="304920" y="228600"/>
            <a:ext cx="239760" cy="1176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Big Bad Wolf 01.gif"/>
          <p:cNvPicPr/>
          <p:nvPr/>
        </p:nvPicPr>
        <p:blipFill>
          <a:blip r:embed="rId2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240"/>
                            </p:stCondLst>
                            <p:childTnLst>
                              <p:par>
                                <p:cTn id="4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219320" y="6094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rite along the lines using P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Big Bad Wolf 01.gif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Big Bad Wolf 01.gif"/>
          <p:cNvPicPr/>
          <p:nvPr/>
        </p:nvPicPr>
        <p:blipFill>
          <a:blip r:embed="rId2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ig Bad Wolf 01.gif"/>
          <p:cNvPicPr/>
          <p:nvPr/>
        </p:nvPicPr>
        <p:blipFill>
          <a:blip r:embed="rId3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g Bad Wolf 01.gif"/>
          <p:cNvPicPr/>
          <p:nvPr/>
        </p:nvPicPr>
        <p:blipFill>
          <a:blip r:embed="rId4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Big Bad Wolf 01.gif"/>
          <p:cNvPicPr/>
          <p:nvPr/>
        </p:nvPicPr>
        <p:blipFill>
          <a:blip r:embed="rId5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Big Bad Wolf 01.gif"/>
          <p:cNvPicPr/>
          <p:nvPr/>
        </p:nvPicPr>
        <p:blipFill>
          <a:blip r:embed="rId6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 Bad Wolf 01.gif"/>
          <p:cNvPicPr/>
          <p:nvPr/>
        </p:nvPicPr>
        <p:blipFill>
          <a:blip r:embed="rId7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Big Bad Wolf 01.gif"/>
          <p:cNvPicPr/>
          <p:nvPr/>
        </p:nvPicPr>
        <p:blipFill>
          <a:blip r:embed="rId8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ig Bad Wolf 01.gif"/>
          <p:cNvPicPr/>
          <p:nvPr/>
        </p:nvPicPr>
        <p:blipFill>
          <a:blip r:embed="rId9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Big Bad Wolf 01.gif"/>
          <p:cNvPicPr/>
          <p:nvPr/>
        </p:nvPicPr>
        <p:blipFill>
          <a:blip r:embed="rId10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Big Bad Wolf 01.gif"/>
          <p:cNvPicPr/>
          <p:nvPr/>
        </p:nvPicPr>
        <p:blipFill>
          <a:blip r:embed="rId11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Pencil yellow.gif"/>
          <p:cNvPicPr/>
          <p:nvPr/>
        </p:nvPicPr>
        <p:blipFill>
          <a:blip r:embed="rId12"/>
          <a:stretch/>
        </p:blipFill>
        <p:spPr>
          <a:xfrm>
            <a:off x="228600" y="304920"/>
            <a:ext cx="990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12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12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12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12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12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119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12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12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12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12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8288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rase the penc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Big Bad Wolf 01.gif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ig Bad Wolf 01.gif"/>
          <p:cNvPicPr/>
          <p:nvPr/>
        </p:nvPicPr>
        <p:blipFill>
          <a:blip r:embed="rId2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Pencil yellow.gif"/>
          <p:cNvPicPr/>
          <p:nvPr/>
        </p:nvPicPr>
        <p:blipFill>
          <a:blip r:embed="rId3"/>
          <a:stretch/>
        </p:blipFill>
        <p:spPr>
          <a:xfrm>
            <a:off x="457200" y="304920"/>
            <a:ext cx="137160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Big Bad Wolf 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2:09:29Z</dcterms:created>
  <dc:creator>Jennifer Yong</dc:creator>
  <dc:description/>
  <dc:language>en-US</dc:language>
  <cp:lastModifiedBy>Jennifer Yong</cp:lastModifiedBy>
  <dcterms:modified xsi:type="dcterms:W3CDTF">2009-07-17T02:30:39Z</dcterms:modified>
  <cp:revision>3</cp:revision>
  <dc:subject/>
  <dc:title>Slide 1</dc:title>
</cp:coreProperties>
</file>