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3C6E7-038F-4591-9838-846FB56D8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5B397-9292-44D4-8681-9E4AD695C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2D166-844B-4307-93F6-99FBC7EBA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9936B-42AA-4A2C-97A1-D0FCCCC12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FAED1-DDA1-4A1C-B72B-80F4748D2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9FAC3-2D91-498C-A5BB-327E4F9B2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C2E66-28A6-4A61-8ABB-0113095AE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F0F35-C673-4FFB-A8A3-561EF77C7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4A817-8D82-4406-866B-DE5A5309C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13867-168E-4046-A828-7395769C2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4BC7A-8D91-4B44-AE1A-3C93F647D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736D8-AB8D-4422-A464-712C9533E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BF29F-59AB-4B07-B9C5-88F33FDD3B4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chasing Power Pa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304920"/>
            <a:ext cx="8229600" cy="6324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China contributing more to global growth than the United Stat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s the average person richer in Canada or in Switzerlan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each country reports its data in its own currenc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means that to compare the data, each country's statistics must be converted into a common currenc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owever, there are several ways to do that conversion and each can give a markedly different answ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457200"/>
            <a:ext cx="82296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main methods of convers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 exchange rates—the rate prevailing in the foreign exchange market (using either the rate at the end of the period or an average over the perio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ther uses the purchasing power parity (PPP) exchange rate—the rate at which the currency of one country would have to be converted into that of another country to buy the same amount of goods and services in each count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45"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ce of a hamburger. If a hamburger is selling in London for £2 and in New York for $4, this would imply a PPP exchange rate of 1 pound to 2 U.S. doll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PPP exchange rate may well be different from that prevailing in financial markets (so that the actual dollar cost of a hamburger in London may be either more or less than the $4 it sells for in New Yor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method is better? </a:t>
            </a:r>
            <a:endParaRPr b="0" lang="en-US" sz="4400" spc="-1" strike="noStrike">
              <a:solidFill>
                <a:srgbClr val="000000"/>
              </a:solidFill>
              <a:latin typeface="Calibri"/>
            </a:endParaRPr>
          </a:p>
        </p:txBody>
      </p:sp>
      <p:sp>
        <p:nvSpPr>
          <p:cNvPr id="47" name=""/>
          <p:cNvSpPr txBox="1"/>
          <p:nvPr/>
        </p:nvSpPr>
        <p:spPr>
          <a:xfrm>
            <a:off x="457200" y="1142640"/>
            <a:ext cx="8229600" cy="525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alibri"/>
              </a:rPr>
              <a:t>Market exchange rates are the logical choice when financial flows are involved</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For example, the current account balance represents a flow of financial resources across countri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appropriate to use the market exchange rate to convert these flows into dollars when aggregating across regions or calculating the global current account discrepanc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But </a:t>
            </a:r>
            <a:r>
              <a:rPr b="1" i="1" lang="en-US" sz="3000" spc="-1" strike="noStrike">
                <a:solidFill>
                  <a:srgbClr val="000000"/>
                </a:solidFill>
                <a:latin typeface="Calibri"/>
              </a:rPr>
              <a:t>for other variables, the decision is less clear cut</a:t>
            </a:r>
            <a:r>
              <a:rPr b="0" lang="en-US" sz="3000" spc="-1" strike="noStrike">
                <a:solidFill>
                  <a:srgbClr val="000000"/>
                </a:solidFill>
                <a:latin typeface="Calibri"/>
              </a:rPr>
              <a:t>. Take real GDP growth.</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Advantages of PPP</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49" name=""/>
          <p:cNvSpPr txBox="1"/>
          <p:nvPr/>
        </p:nvSpPr>
        <p:spPr>
          <a:xfrm>
            <a:off x="457200" y="1218960"/>
            <a:ext cx="8229600" cy="525780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PP exchange rates are relatively stable over time. By contrast, market rates are more volatile, and using them could produce quite large swings in aggregate measures of growth even when growth rates in individual countries are stable.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other drawback of market-based rates is that they are relevant only for internationally traded good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ntraded goods and services tend to be cheaper in low-income than in high-income countrie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alibri"/>
              </a:rPr>
              <a:t>Drawbacks of PPP</a:t>
            </a:r>
            <a:endParaRPr b="0" lang="en-US" sz="4000" spc="-1" strike="noStrike">
              <a:solidFill>
                <a:srgbClr val="000000"/>
              </a:solidFill>
              <a:latin typeface="Calibri"/>
            </a:endParaRPr>
          </a:p>
        </p:txBody>
      </p:sp>
      <p:sp>
        <p:nvSpPr>
          <p:cNvPr id="51" name=""/>
          <p:cNvSpPr txBox="1"/>
          <p:nvPr/>
        </p:nvSpPr>
        <p:spPr>
          <a:xfrm>
            <a:off x="228240" y="1066320"/>
            <a:ext cx="8458200" cy="5334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iggest one is that PPP is harder to measure than market-based ra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oes it make a difference?</a:t>
            </a:r>
            <a:endParaRPr b="0" lang="en-US" sz="4400" spc="-1" strike="noStrike">
              <a:solidFill>
                <a:srgbClr val="000000"/>
              </a:solidFill>
              <a:latin typeface="Calibri"/>
            </a:endParaRPr>
          </a:p>
        </p:txBody>
      </p:sp>
      <p:sp>
        <p:nvSpPr>
          <p:cNvPr id="53" name=""/>
          <p:cNvSpPr txBox="1"/>
          <p:nvPr/>
        </p:nvSpPr>
        <p:spPr>
          <a:xfrm>
            <a:off x="456840" y="1142640"/>
            <a:ext cx="8381880" cy="5334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t depend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re is a large gap between market and PPP-based rates in emerging market and developing countries, for most of which the ratio of the market and PPP U.S. dollar exchange rate is between 2 and 4.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ut for advanced countries, the market and PPP rates tend to be much close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s a result, developing countries get a much higher weight in aggregations that use PPP exchange rates than they do using market exchange rat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ina's weight in the global economy is more than 15 percent using PPP exchange rates, but less than 5 percent with market-based weight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India, the figures are 6 percent and 1.5 percent, respectively.</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31T11:32:29Z</dcterms:created>
  <dc:creator>Manu J Vettickan</dc:creator>
  <dc:description/>
  <dc:language>en-US</dc:language>
  <cp:lastModifiedBy>Manu J Vettickan</cp:lastModifiedBy>
  <dcterms:modified xsi:type="dcterms:W3CDTF">2011-12-31T16:11:36Z</dcterms:modified>
  <cp:revision>13</cp:revision>
  <dc:subject/>
  <dc:title>Purchasing Power Parity</dc:title>
</cp:coreProperties>
</file>