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BB4-DE44-44F5-B94B-3390AB7A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BEB-EBF2-480E-92F7-FC9F229F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7FE-8218-4B2E-AF20-9F704A10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404-F64C-4D86-A7E6-4C7DC341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EC50-2776-4CDF-AE76-78942BB2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FE7-30B0-4660-9711-2E64D862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6841-D592-4DA8-BE36-77D5E45F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DC6-B84A-4A53-A27E-AD69A0DE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BE7-0A46-4A5A-8338-7BADBE43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306-3FB7-4994-8F52-5D87518C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349-121B-4810-8775-F4BDAD46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4AAD-2921-4B9A-8775-564CE3D7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BA143-68EE-4A5A-9AF1-10ED2C2E0BD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4D86D-F5E6-410D-899E-A2C78490100B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2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3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6:14:37Z</dcterms:created>
  <dc:creator>최봉수</dc:creator>
  <dc:description/>
  <dc:language>en-US</dc:language>
  <cp:lastModifiedBy>맛있다 군만두</cp:lastModifiedBy>
  <dcterms:modified xsi:type="dcterms:W3CDTF">2023-07-13T09:02:02Z</dcterms:modified>
  <cp:revision>4</cp:revision>
  <dc:subject/>
  <dc:title>슬라이드 1</dc:title>
</cp:coreProperties>
</file>