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6AE-0166-4579-A8B1-15B0F404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09F-6086-47C6-A297-5E489F65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E4D-F40A-4D75-85D1-F9C3702C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1EA-C902-47BD-8C5A-133D373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923-7731-4323-B78B-9A6A26AA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09D-91C6-46EC-8A2D-9C40F23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679-F097-47DE-B7F6-723BCA9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3EF-F9B0-4689-BDD3-948BE02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3EC-0AA5-41D6-895E-5CD0CE91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681-4CD3-4836-A0FA-C8E8F3F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740-5C15-4DC2-9606-9B7F4E6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16A-45DB-4629-8297-8076F0C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2496A-7112-4DDB-A38A-5687567F9D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3A746-3CFC-410E-B21F-80134D834D9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14:37Z</dcterms:created>
  <dc:creator>최봉수</dc:creator>
  <dc:description/>
  <dc:language>en-US</dc:language>
  <cp:lastModifiedBy>맛있다 군만두</cp:lastModifiedBy>
  <dcterms:modified xsi:type="dcterms:W3CDTF">2023-07-13T09:02:02Z</dcterms:modified>
  <cp:revision>4</cp:revision>
  <dc:subject/>
  <dc:title>슬라이드 1</dc:title>
</cp:coreProperties>
</file>