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3C64-7EC2-48F3-A269-3DDB2199E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5A2B-6C05-4B52-A9B7-B880BCF2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7129-F248-4011-95A0-DCA2A2B1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6293-B63C-444E-91E7-F724936D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242E-4008-41FD-AF79-BF2175DE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C874-33EE-4201-851D-BD362D30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D35D-28A3-4C67-9A00-72EAE0DA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3B89-D7F9-43CF-8C71-EC2BFA6D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ABF1-1A05-4E7F-AFD3-3104B363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78CA-603F-43E3-83C7-A6276271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05F6-546A-49A0-BCB1-D08A7454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3FC3-0BB5-4ACE-ABFA-93F47D7D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638F-B083-4519-81EF-5D35F8E193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95560" y="1587600"/>
            <a:ext cx="495288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93960" y="25560"/>
            <a:ext cx="3556080" cy="68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16120" y="380880"/>
            <a:ext cx="39117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25760" y="228600"/>
            <a:ext cx="40431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14640" y="304920"/>
            <a:ext cx="4854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54080" y="380880"/>
            <a:ext cx="53676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08200" y="304920"/>
            <a:ext cx="3878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 remarquez vous pas une certaine ressemblance avec Georges W.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73212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68560" y="228600"/>
            <a:ext cx="49467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111480" y="336600"/>
            <a:ext cx="292104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5240" y="304920"/>
            <a:ext cx="41335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93960" y="1092240"/>
            <a:ext cx="355608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880" y="507960"/>
            <a:ext cx="845820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04840" y="228600"/>
            <a:ext cx="5134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24200" y="393840"/>
            <a:ext cx="5295600" cy="60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3555720" cy="43686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1430280"/>
            <a:ext cx="8686800" cy="3997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979640" y="5877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93960" y="901800"/>
            <a:ext cx="355608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43240" y="1314360"/>
            <a:ext cx="445752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5120" y="114480"/>
            <a:ext cx="53337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612720"/>
            <a:ext cx="685800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14680" y="654120"/>
            <a:ext cx="571500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49360" y="444600"/>
            <a:ext cx="4445280" cy="59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84320" y="380880"/>
            <a:ext cx="34610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08:26:26Z</dcterms:created>
  <dc:creator>gananca-jf</dc:creator>
  <dc:description>www.funny.lu</dc:description>
  <dc:language>en-US</dc:language>
  <cp:lastModifiedBy>Smets</cp:lastModifiedBy>
  <dcterms:modified xsi:type="dcterms:W3CDTF">2008-10-31T03:28:47Z</dcterms:modified>
  <cp:revision>4</cp:revision>
  <dc:subject/>
  <dc:title>Les images que vous allez voir sont d’excellents travaux de retouche d’image.</dc:title>
</cp:coreProperties>
</file>