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B89-F218-48A1-B566-7E24C853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C4F-414C-4655-B23F-FE0D697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033-FB91-4B1F-B8A1-1A0B0F4B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09E-AC22-4F5C-8466-DA681FF4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08D-D7AC-41D5-A3E4-7B6934B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005-3CC7-4CED-ABD7-D2559C8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25A-3E4B-4748-AC3E-7D3F0985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0C4-2B3D-411B-BB68-1D6A0467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942-BDA5-4A2F-AE02-5D5661B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F4E-5997-4D9F-A8BA-A43C09E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8F2-28AF-4CA3-B001-F37F880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B64-2329-4335-BB40-51E858BC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C7C-ABA8-4220-B06D-114765D3A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5560" y="1587600"/>
            <a:ext cx="4952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93960" y="25560"/>
            <a:ext cx="35560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16120" y="380880"/>
            <a:ext cx="3911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5760" y="228600"/>
            <a:ext cx="4043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14640" y="304920"/>
            <a:ext cx="48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54080" y="380880"/>
            <a:ext cx="5367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08200" y="304920"/>
            <a:ext cx="3878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 remarquez vous pas une certaine ressemblance avec Georges W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732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68560" y="228600"/>
            <a:ext cx="4946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11480" y="336600"/>
            <a:ext cx="292104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5240" y="304920"/>
            <a:ext cx="4133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93960" y="1092240"/>
            <a:ext cx="3556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507960"/>
            <a:ext cx="84582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4840" y="228600"/>
            <a:ext cx="513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24200" y="393840"/>
            <a:ext cx="52956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555720" cy="4368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430280"/>
            <a:ext cx="8686800" cy="3997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93960" y="901800"/>
            <a:ext cx="3556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3240" y="1314360"/>
            <a:ext cx="44575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114480"/>
            <a:ext cx="5333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612720"/>
            <a:ext cx="6858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14680" y="654120"/>
            <a:ext cx="5715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49360" y="444600"/>
            <a:ext cx="44452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84320" y="380880"/>
            <a:ext cx="3461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8:26:26Z</dcterms:created>
  <dc:creator>gananca-jf</dc:creator>
  <dc:description>www.funny.lu</dc:description>
  <dc:language>en-US</dc:language>
  <cp:lastModifiedBy>Smets</cp:lastModifiedBy>
  <dcterms:modified xsi:type="dcterms:W3CDTF">2008-10-31T03:28:47Z</dcterms:modified>
  <cp:revision>4</cp:revision>
  <dc:subject/>
  <dc:title>Les images que vous allez voir sont d’excellents travaux de retouche d’image.</dc:title>
</cp:coreProperties>
</file>