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414E-E3C5-4593-94D0-FE77BA568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752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8259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852360"/>
            <a:ext cx="8259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EAE9-2D13-41DD-A0C9-579EE716D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752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4030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18320" y="1066320"/>
            <a:ext cx="4030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852360"/>
            <a:ext cx="4030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18320" y="3852360"/>
            <a:ext cx="4030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A1D9-7A35-4165-9AD7-D23A37DDB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52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659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78320" y="1066320"/>
            <a:ext cx="2659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71200" y="1066320"/>
            <a:ext cx="2659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852360"/>
            <a:ext cx="2659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78320" y="3852360"/>
            <a:ext cx="2659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71200" y="3852360"/>
            <a:ext cx="2659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2E8C-60AA-4459-8007-0EA5EAB67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05DEE-51DF-4028-9D03-60A3C0D5B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52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rebuchet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825984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EB2BE-5F07-4503-8B11-8339670B8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52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82598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053F4-4763-4405-945C-85414F2F0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2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40305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918320" y="1066320"/>
            <a:ext cx="40305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46DEE-F543-4D5E-B12E-607D9BAA6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52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06A5E-ABAC-4E2A-9F38-3963A7713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FA781-B920-416F-9D4F-587E8E356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52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4030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18320" y="1066320"/>
            <a:ext cx="40305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3852360"/>
            <a:ext cx="4030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BE1F6-1C46-40AE-91DF-7CC503959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752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825984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3D35-BC92-4277-BCCC-D4C088314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52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40305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18320" y="1066320"/>
            <a:ext cx="4030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918320" y="3852360"/>
            <a:ext cx="4030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A4285-655C-4562-9CD6-33F34E0B2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52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4030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18320" y="1066320"/>
            <a:ext cx="4030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3852360"/>
            <a:ext cx="8259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C66F1-BFFF-4DF3-9805-49AB342A7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752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8259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3852360"/>
            <a:ext cx="8259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4D8B3-2CCD-4666-BB90-CCE5C06A4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752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4030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918320" y="1066320"/>
            <a:ext cx="4030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852360"/>
            <a:ext cx="4030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918320" y="3852360"/>
            <a:ext cx="4030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3A828-1422-47A1-BEB0-50B5E806E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752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659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478320" y="1066320"/>
            <a:ext cx="2659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71200" y="1066320"/>
            <a:ext cx="2659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3852360"/>
            <a:ext cx="2659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478320" y="3852360"/>
            <a:ext cx="2659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71200" y="3852360"/>
            <a:ext cx="2659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5ECD9-09CD-40D7-8866-0FED1561D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752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82598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2A85-FBE4-4F1E-9444-49D4DF2DA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752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40305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18320" y="1066320"/>
            <a:ext cx="40305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B6F5-8559-40E3-87FD-FC0D84695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752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D76C-9F79-4250-8B7E-BDD56F546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163E-3908-4F37-A59C-8A7625F42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752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4030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8320" y="1066320"/>
            <a:ext cx="40305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852360"/>
            <a:ext cx="4030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52E3-BF13-44D5-85B9-4E13766D9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752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40305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18320" y="1066320"/>
            <a:ext cx="4030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18320" y="3852360"/>
            <a:ext cx="4030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0DD1-F987-491E-ADC5-B37EAB845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752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4030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18320" y="1066320"/>
            <a:ext cx="4030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852360"/>
            <a:ext cx="8259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9B1D-597A-4411-8DFC-A81A4F30E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38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066320"/>
            <a:ext cx="82598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  <a:p>
            <a:pPr lvl="1" marL="743040" indent="-285840">
              <a:spcBef>
                <a:spcPts val="601"/>
              </a:spcBef>
              <a:buClr>
                <a:srgbClr val="008000"/>
              </a:buClr>
              <a:buFont typeface="Verdana Re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  <a:p>
            <a:pPr lvl="2" marL="1143000" indent="-228600">
              <a:spcBef>
                <a:spcPts val="601"/>
              </a:spcBef>
              <a:buClr>
                <a:srgbClr val="008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  <a:p>
            <a:pPr lvl="3" marL="1600200" indent="-228600">
              <a:spcBef>
                <a:spcPts val="601"/>
              </a:spcBef>
              <a:buClr>
                <a:srgbClr val="008000"/>
              </a:buClr>
              <a:buFont typeface="Verdana Re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  <a:p>
            <a:pPr lvl="4" marL="2057400" indent="-228600">
              <a:spcBef>
                <a:spcPts val="601"/>
              </a:spcBef>
              <a:buClr>
                <a:srgbClr val="008000"/>
              </a:buClr>
              <a:buFont typeface="Verdana Re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Verdana Re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Verdana Re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1172880" y="6535440"/>
            <a:ext cx="190476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 Ref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 Ref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44360" y="990720"/>
            <a:ext cx="8999640" cy="0"/>
          </a:xfrm>
          <a:prstGeom prst="line">
            <a:avLst/>
          </a:prstGeom>
          <a:ln w="3816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581280" y="655272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 Ref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 Ref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7010280" y="655272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 Ref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2F93B-F2E4-4832-A291-A52012D0F116}" type="slidenum">
              <a:rPr b="0" lang="en-US" sz="1400" spc="-1" strike="noStrike">
                <a:solidFill>
                  <a:srgbClr val="000000"/>
                </a:solidFill>
                <a:latin typeface="Verdana Re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389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cc00"/>
                </a:solidFill>
                <a:latin typeface="Verdana Ref"/>
              </a:rPr>
              <a:t>Click to edit the title text format</a:t>
            </a:r>
            <a:endParaRPr b="0" lang="en-US" sz="7200" spc="-1" strike="noStrike">
              <a:solidFill>
                <a:srgbClr val="00cc00"/>
              </a:solidFill>
              <a:latin typeface="Verdana Ref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1166760" y="647676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 Ref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 Ref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47676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 Ref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 Ref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47676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 Ref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B97AC-7221-4E88-98C5-85B3A70383F8}" type="slidenum">
              <a:rPr b="0" lang="en-US" sz="1400" spc="-1" strike="noStrike">
                <a:solidFill>
                  <a:srgbClr val="000000"/>
                </a:solidFill>
                <a:latin typeface="Verdana Re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 Ref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 Ref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 Ref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 Ref"/>
            </a:endParaRPr>
          </a:p>
          <a:p>
            <a:pPr lvl="2" marL="914400" algn="ctr">
              <a:spcBef>
                <a:spcPts val="451"/>
              </a:spcBef>
              <a:buClr>
                <a:srgbClr val="008000"/>
              </a:buClr>
              <a:buFont typeface="Verdana Ref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 Ref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Verdana Ref"/>
            </a:endParaRPr>
          </a:p>
          <a:p>
            <a:pPr lvl="3" marL="1371600" algn="ctr">
              <a:spcBef>
                <a:spcPts val="400"/>
              </a:spcBef>
              <a:buClr>
                <a:srgbClr val="008000"/>
              </a:buClr>
              <a:buFont typeface="Verdana Ref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 Ref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Verdana Ref"/>
            </a:endParaRPr>
          </a:p>
          <a:p>
            <a:pPr lvl="4" marL="1828800" algn="ctr">
              <a:spcBef>
                <a:spcPts val="349"/>
              </a:spcBef>
              <a:buClr>
                <a:srgbClr val="008000"/>
              </a:buClr>
              <a:buFont typeface="Verdana Ref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 Ref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 Ref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Verdana Re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 Ref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 Ref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Verdana Re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 Ref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 Re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213120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cc00"/>
                </a:solidFill>
                <a:latin typeface="Verdana Ref"/>
              </a:rPr>
              <a:t>XML DOM</a:t>
            </a:r>
            <a:endParaRPr b="0" lang="en-US" sz="7200" spc="-1" strike="noStrike">
              <a:solidFill>
                <a:srgbClr val="00cc00"/>
              </a:solidFill>
              <a:latin typeface="Verdana Ref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523880" y="441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 Ref"/>
              </a:rPr>
              <a:t>GV  Lương Hán Cơ</a:t>
            </a:r>
            <a:endParaRPr b="0" lang="en-US" sz="3200" spc="-1" strike="noStrike">
              <a:solidFill>
                <a:srgbClr val="000000"/>
              </a:solidFill>
              <a:latin typeface="Verdana Ref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 Ref"/>
              </a:rPr>
              <a:t>Khoa CNTT – ĐH KHTN</a:t>
            </a:r>
            <a:endParaRPr b="0" lang="en-US" sz="32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ĐHKHTN-CNTT-Lương Hán Cơ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AA9E3-D983-49F1-8A7C-1885983975C5}" type="slidenum">
              <a:t>1</a:t>
            </a:fld>
          </a:p>
        </p:txBody>
      </p:sp>
    </p:spTree>
  </p:cSld>
  <p:transition spd="med"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rebuchet MS"/>
              </a:rPr>
              <a:t>Lấy dữ liệu từ attributes</a:t>
            </a:r>
            <a:endParaRPr b="0" lang="en-US" sz="4400" spc="-1" strike="noStrike">
              <a:solidFill>
                <a:srgbClr val="008000"/>
              </a:solidFill>
              <a:latin typeface="Trebuchet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82598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Sử dụng thuộc tính attributes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601"/>
              </a:spcBef>
              <a:buClr>
                <a:srgbClr val="008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Thuộc tính attributes chỉ có hiệu lực đối với node là loại element. Các trường hợp khác sẽ mang giá trị null.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601"/>
              </a:spcBef>
              <a:buClr>
                <a:srgbClr val="008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Thuộc tính attributes sẽ trả về đối tượng NamedNodeMap.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601"/>
              </a:spcBef>
              <a:buClr>
                <a:srgbClr val="008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Mỗi phần tử trong attributes là một đối tượng node với nodeType = ATTRIBUTE_NODE.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ĐHKHTN-CNTT-Lương Hán Cơ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FDAE-AAF3-4CB3-9EB7-EEA1029B3EE8}" type="slidenum">
              <a:t>10</a:t>
            </a:fld>
          </a:p>
        </p:txBody>
      </p:sp>
    </p:spTree>
  </p:cSld>
  <p:transition spd="med"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rebuchet MS"/>
              </a:rPr>
              <a:t>NodeList vs NamedNodeMap</a:t>
            </a:r>
            <a:endParaRPr b="0" lang="en-US" sz="4400" spc="-1" strike="noStrike">
              <a:solidFill>
                <a:srgbClr val="008000"/>
              </a:solidFill>
              <a:latin typeface="Trebuchet MS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304920" y="2057400"/>
          <a:ext cx="8610480" cy="2309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057400"/>
                    <a:ext cx="8610480" cy="23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ĐHKHTN-CNTT-Lương Hán Cơ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D35E-BBFD-40B8-BC26-1F1619B42D62}" type="slidenum">
              <a:t>11</a:t>
            </a:fld>
          </a:p>
        </p:txBody>
      </p:sp>
    </p:spTree>
  </p:cSld>
  <p:transition spd="med"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rebuchet MS"/>
              </a:rPr>
              <a:t>Thay đổi tài liệu XML</a:t>
            </a:r>
            <a:endParaRPr b="0" lang="en-US" sz="4400" spc="-1" strike="noStrike">
              <a:solidFill>
                <a:srgbClr val="008000"/>
              </a:solidFill>
              <a:latin typeface="Trebuchet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82598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 Ref"/>
              </a:rPr>
              <a:t>Tạo node</a:t>
            </a:r>
            <a:endParaRPr b="0" lang="en-US" sz="2000" spc="-1" strike="noStrike">
              <a:solidFill>
                <a:srgbClr val="000000"/>
              </a:solidFill>
              <a:latin typeface="Verdana Ref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8000"/>
              </a:buClr>
              <a:buFont typeface="Verdana Re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 Ref"/>
              </a:rPr>
              <a:t>createNode: dùng để tạo mới tất cả các loại node</a:t>
            </a:r>
            <a:endParaRPr b="0" lang="en-US" sz="1800" spc="-1" strike="noStrike">
              <a:solidFill>
                <a:srgbClr val="000000"/>
              </a:solidFill>
              <a:latin typeface="Verdana Ref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8000"/>
              </a:buClr>
              <a:buFont typeface="Verdana Re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 Ref"/>
              </a:rPr>
              <a:t>createElement: = createNode với loại ELEMENT_NODE</a:t>
            </a:r>
            <a:endParaRPr b="0" lang="en-US" sz="1800" spc="-1" strike="noStrike">
              <a:solidFill>
                <a:srgbClr val="000000"/>
              </a:solidFill>
              <a:latin typeface="Verdana Ref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8000"/>
              </a:buClr>
              <a:buFont typeface="Verdana Re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 Ref"/>
              </a:rPr>
              <a:t>createTextNode: = createNode với loại TEXT_NODE</a:t>
            </a:r>
            <a:endParaRPr b="0" lang="en-US" sz="18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 Ref"/>
              </a:rPr>
              <a:t>Gắn node mới vào tài liệu XML</a:t>
            </a:r>
            <a:endParaRPr b="0" lang="en-US" sz="2000" spc="-1" strike="noStrike">
              <a:solidFill>
                <a:srgbClr val="000000"/>
              </a:solidFill>
              <a:latin typeface="Verdana Ref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8000"/>
              </a:buClr>
              <a:buFont typeface="Verdana Re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 Ref"/>
              </a:rPr>
              <a:t>nodeCha.appendChild: thêm vào phần tử cuối cùng của danh sách childNodes của node cha.</a:t>
            </a:r>
            <a:endParaRPr b="0" lang="en-US" sz="1800" spc="-1" strike="noStrike">
              <a:solidFill>
                <a:srgbClr val="000000"/>
              </a:solidFill>
              <a:latin typeface="Verdana Ref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8000"/>
              </a:buClr>
              <a:buFont typeface="Verdana Re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 Ref"/>
              </a:rPr>
              <a:t>nodeCha.insertBefore : thêm node mới vào trước phần tử nào đó trong childNodes của node cha.</a:t>
            </a:r>
            <a:endParaRPr b="0" lang="en-US" sz="18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 Ref"/>
              </a:rPr>
              <a:t>Tạo attribute</a:t>
            </a:r>
            <a:endParaRPr b="0" lang="en-US" sz="2000" spc="-1" strike="noStrike">
              <a:solidFill>
                <a:srgbClr val="000000"/>
              </a:solidFill>
              <a:latin typeface="Verdana Ref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8000"/>
              </a:buClr>
              <a:buFont typeface="Verdana Re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 Ref"/>
              </a:rPr>
              <a:t>createAttribute: = createNode với loại ATTRIBUTE_NODE</a:t>
            </a:r>
            <a:endParaRPr b="0" lang="en-US" sz="18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 Ref"/>
              </a:rPr>
              <a:t>Thêm attribute vào tài liệu XML</a:t>
            </a:r>
            <a:endParaRPr b="0" lang="en-US" sz="2000" spc="-1" strike="noStrike">
              <a:solidFill>
                <a:srgbClr val="000000"/>
              </a:solidFill>
              <a:latin typeface="Verdana Ref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8000"/>
              </a:buClr>
              <a:buFont typeface="Verdana Re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 Ref"/>
              </a:rPr>
              <a:t>node. setAttributeNode</a:t>
            </a:r>
            <a:endParaRPr b="0" lang="en-US" sz="1800" spc="-1" strike="noStrike">
              <a:solidFill>
                <a:srgbClr val="000000"/>
              </a:solidFill>
              <a:latin typeface="Verdana Ref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8000"/>
              </a:buClr>
              <a:buFont typeface="Verdana Re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 Ref"/>
              </a:rPr>
              <a:t>node.attributes.setNamedItem</a:t>
            </a:r>
            <a:endParaRPr b="0" lang="en-US" sz="18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 Ref"/>
              </a:rPr>
              <a:t>Xóa node</a:t>
            </a:r>
            <a:endParaRPr b="0" lang="en-US" sz="2000" spc="-1" strike="noStrike">
              <a:solidFill>
                <a:srgbClr val="000000"/>
              </a:solidFill>
              <a:latin typeface="Verdana Ref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8000"/>
              </a:buClr>
              <a:buFont typeface="Verdana Re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 Ref"/>
              </a:rPr>
              <a:t>node.removeChild</a:t>
            </a:r>
            <a:endParaRPr b="0" lang="en-US" sz="18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ĐHKHTN-CNTT-Lương Hán Cơ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40A3-4BA5-4854-86FA-665694367AC8}" type="slidenum">
              <a:t>12</a:t>
            </a:fld>
          </a:p>
        </p:txBody>
      </p:sp>
    </p:spTree>
  </p:cSld>
  <p:transition spd="med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rebuchet MS"/>
              </a:rPr>
              <a:t>Nội dung</a:t>
            </a:r>
            <a:endParaRPr b="0" lang="en-US" sz="4400" spc="-1" strike="noStrike">
              <a:solidFill>
                <a:srgbClr val="008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82598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8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Giới thiệu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  <a:p>
            <a:pPr marL="533520" indent="-533520">
              <a:spcBef>
                <a:spcPts val="601"/>
              </a:spcBef>
              <a:buClr>
                <a:srgbClr val="008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Lấy dữ liệu từ element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  <a:p>
            <a:pPr marL="533520" indent="-533520">
              <a:spcBef>
                <a:spcPts val="601"/>
              </a:spcBef>
              <a:buClr>
                <a:srgbClr val="008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Lấy dữ liệu từ attribute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  <a:p>
            <a:pPr marL="533520" indent="-533520">
              <a:spcBef>
                <a:spcPts val="601"/>
              </a:spcBef>
              <a:buClr>
                <a:srgbClr val="008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Thay đổi tài liệu XML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ĐHKHTN-CNTT-Lương Hán Cơ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9518-BF1F-4D13-A41E-06F87B8A517C}" type="slidenum">
              <a:t>2</a:t>
            </a:fld>
          </a:p>
        </p:txBody>
      </p:sp>
    </p:spTree>
  </p:cSld>
  <p:transition spd="med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rebuchet MS"/>
              </a:rPr>
              <a:t>Giới thiệu</a:t>
            </a:r>
            <a:endParaRPr b="0" lang="en-US" sz="4400" spc="-1" strike="noStrike">
              <a:solidFill>
                <a:srgbClr val="008000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82598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Ứng với mỗi cấu trúc tài liệu XML phải có một cách thức để truy xuất 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</a:t>
            </a: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 khó phát triển ứng dụng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601"/>
              </a:spcBef>
              <a:buClr>
                <a:srgbClr val="008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Cần xây dựng một thư viện tổng quát sử dụng cho mọi tài liệu.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601"/>
              </a:spcBef>
              <a:buClr>
                <a:srgbClr val="008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DOM (Document Object Model) được sử dụng để thao tác lên tất cả các tài liệu XML.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601"/>
              </a:spcBef>
              <a:buClr>
                <a:srgbClr val="008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DOM có nhiều phiên bản: DOM Level 1, </a:t>
            </a:r>
            <a:r>
              <a:rPr b="1" lang="en-US" sz="2400" spc="-1" strike="noStrike">
                <a:solidFill>
                  <a:srgbClr val="000000"/>
                </a:solidFill>
                <a:latin typeface="Verdana Ref"/>
              </a:rPr>
              <a:t>DOM Level 2</a:t>
            </a: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, DOM Level 3 (draft).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601"/>
              </a:spcBef>
              <a:buClr>
                <a:srgbClr val="008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cc"/>
                </a:solidFill>
                <a:latin typeface="Verdana Ref"/>
              </a:rPr>
              <a:t>http://www.w3.org/TR/DOM-Level-2/ 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ĐHKHTN-CNTT-Lương Hán Cơ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BF4A-FA5E-45E7-B9F2-496D65A0B4D8}" type="slidenum">
              <a:t>3</a:t>
            </a:fld>
          </a:p>
        </p:txBody>
      </p:sp>
    </p:spTree>
  </p:cSld>
  <p:transition spd="med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rebuchet MS"/>
              </a:rPr>
              <a:t>Ví dụ</a:t>
            </a:r>
            <a:endParaRPr b="0" lang="en-US" sz="4400" spc="-1" strike="noStrike">
              <a:solidFill>
                <a:srgbClr val="008000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2286000"/>
            <a:ext cx="81532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 Ref"/>
              </a:rPr>
              <a:t>&lt;?xml version="1.0"?&gt;</a:t>
            </a:r>
            <a:endParaRPr b="0" lang="en-US" sz="1600" spc="-1" strike="noStrike">
              <a:solidFill>
                <a:srgbClr val="000000"/>
              </a:solidFill>
              <a:latin typeface="Verdana Ref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 Ref"/>
              </a:rPr>
              <a:t>&lt;order number="312597"&gt;</a:t>
            </a:r>
            <a:endParaRPr b="0" lang="en-US" sz="1600" spc="-1" strike="noStrike">
              <a:solidFill>
                <a:srgbClr val="000000"/>
              </a:solidFill>
              <a:latin typeface="Verdana Ref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 Ref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 Ref"/>
              </a:rPr>
              <a:t>&lt;date&gt;2000/1/1&lt;/date&gt;</a:t>
            </a:r>
            <a:endParaRPr b="0" lang="en-US" sz="1600" spc="-1" strike="noStrike">
              <a:solidFill>
                <a:srgbClr val="000000"/>
              </a:solidFill>
              <a:latin typeface="Verdana Ref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 Ref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 Ref"/>
              </a:rPr>
              <a:t>&lt;customer id="216A"&gt;Company A&lt;/customer&gt; </a:t>
            </a:r>
            <a:endParaRPr b="0" lang="en-US" sz="1600" spc="-1" strike="noStrike">
              <a:solidFill>
                <a:srgbClr val="000000"/>
              </a:solidFill>
              <a:latin typeface="Verdana Ref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 Ref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 Ref"/>
              </a:rPr>
              <a:t>&lt;item&gt;</a:t>
            </a:r>
            <a:endParaRPr b="0" lang="en-US" sz="1600" spc="-1" strike="noStrike">
              <a:solidFill>
                <a:srgbClr val="000000"/>
              </a:solidFill>
              <a:latin typeface="Verdana Ref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 Ref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 Ref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 Ref"/>
              </a:rPr>
              <a:t>&lt;part-number warehouse="Warehouse 11"&gt;</a:t>
            </a:r>
            <a:endParaRPr b="0" lang="en-US" sz="1600" spc="-1" strike="noStrike">
              <a:solidFill>
                <a:srgbClr val="000000"/>
              </a:solidFill>
              <a:latin typeface="Verdana Ref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 Ref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 Ref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 Ref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 Ref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 Ref"/>
              </a:rPr>
              <a:t>E16-25A&lt;/part-number&gt;</a:t>
            </a:r>
            <a:endParaRPr b="0" lang="en-US" sz="1600" spc="-1" strike="noStrike">
              <a:solidFill>
                <a:srgbClr val="000000"/>
              </a:solidFill>
              <a:latin typeface="Verdana Ref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 Ref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 Ref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 Ref"/>
              </a:rPr>
              <a:t>&lt;description&gt;Production-Class</a:t>
            </a:r>
            <a:endParaRPr b="0" lang="en-US" sz="1600" spc="-1" strike="noStrike">
              <a:solidFill>
                <a:srgbClr val="000000"/>
              </a:solidFill>
              <a:latin typeface="Verdana Ref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 Ref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 Ref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 Ref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 Ref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 Ref"/>
              </a:rPr>
              <a:t>Widget&lt;/description&gt;</a:t>
            </a:r>
            <a:endParaRPr b="0" lang="en-US" sz="1600" spc="-1" strike="noStrike">
              <a:solidFill>
                <a:srgbClr val="000000"/>
              </a:solidFill>
              <a:latin typeface="Verdana Ref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 Ref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 Ref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 Ref"/>
              </a:rPr>
              <a:t>&lt;quantity&gt;16&lt;/quantity&gt;</a:t>
            </a:r>
            <a:endParaRPr b="0" lang="en-US" sz="1600" spc="-1" strike="noStrike">
              <a:solidFill>
                <a:srgbClr val="000000"/>
              </a:solidFill>
              <a:latin typeface="Verdana Ref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 Ref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 Ref"/>
              </a:rPr>
              <a:t>&lt;/item&gt;</a:t>
            </a:r>
            <a:endParaRPr b="0" lang="en-US" sz="1600" spc="-1" strike="noStrike">
              <a:solidFill>
                <a:srgbClr val="000000"/>
              </a:solidFill>
              <a:latin typeface="Verdana Ref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 Ref"/>
              </a:rPr>
              <a:t>&lt;/order&gt;</a:t>
            </a:r>
            <a:r>
              <a:rPr b="0" lang="en-US" sz="2000" spc="-1" strike="noStrike">
                <a:solidFill>
                  <a:srgbClr val="000000"/>
                </a:solidFill>
                <a:latin typeface="Verdana Ref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 Ref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5978520" y="304920"/>
            <a:ext cx="3165480" cy="5486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ĐHKHTN-CNTT-Lương Hán Cơ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C606-0D08-4C91-9DCB-FE468B3F102A}" type="slidenum">
              <a:t>4</a:t>
            </a:fld>
          </a:p>
        </p:txBody>
      </p:sp>
    </p:spTree>
  </p:cSld>
  <p:transition spd="med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rebuchet MS"/>
              </a:rPr>
              <a:t>Giới thiệu</a:t>
            </a:r>
            <a:endParaRPr b="0" lang="en-US" sz="4400" spc="-1" strike="noStrike">
              <a:solidFill>
                <a:srgbClr val="008000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1066320"/>
            <a:ext cx="6553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 Ref"/>
              </a:rPr>
              <a:t>XML DOM đóng vai trò như lớp giao tiếp ở giữa của chương trình ứng dụng và XML parser.</a:t>
            </a:r>
            <a:endParaRPr b="0" lang="en-US" sz="20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 Ref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733920" y="2133720"/>
            <a:ext cx="1160280" cy="3533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ĐHKHTN-CNTT-Lương Hán Cơ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9C5A-CACE-4630-A81B-99A396C61E64}" type="slidenum">
              <a:t>5</a:t>
            </a:fld>
          </a:p>
        </p:txBody>
      </p:sp>
    </p:spTree>
  </p:cSld>
  <p:transition spd="med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rebuchet MS"/>
              </a:rPr>
              <a:t>Tạo đối tượng DOM</a:t>
            </a:r>
            <a:endParaRPr b="0" lang="en-US" sz="4400" spc="-1" strike="noStrike">
              <a:solidFill>
                <a:srgbClr val="008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82598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Java script: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 Ref"/>
              </a:rPr>
              <a:t>var oDOM;</a:t>
            </a:r>
            <a:endParaRPr b="0" lang="en-US" sz="20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 Ref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 Ref"/>
              </a:rPr>
              <a:t>oDOM = new ActiveXObject("MSXML.DOMDocument");</a:t>
            </a:r>
            <a:endParaRPr b="0" lang="en-US" sz="20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 Ref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 Ref"/>
              </a:rPr>
              <a:t>oDOM.async = false;</a:t>
            </a:r>
            <a:endParaRPr b="0" lang="en-US" sz="20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 Ref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 Ref"/>
              </a:rPr>
              <a:t>oDOM.load("domnode.xml"); </a:t>
            </a:r>
            <a:endParaRPr b="0" lang="en-US" sz="20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ĐHKHTN-CNTT-Lương Hán Cơ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27D2-4DA4-4FA7-953C-5BAC76A68B89}" type="slidenum">
              <a:t>6</a:t>
            </a:fld>
          </a:p>
        </p:txBody>
      </p:sp>
    </p:spTree>
  </p:cSld>
  <p:transition spd="med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rebuchet MS"/>
              </a:rPr>
              <a:t>Sử dụng DOM để lấy dữ liệu</a:t>
            </a:r>
            <a:endParaRPr b="0" lang="en-US" sz="4400" spc="-1" strike="noStrike">
              <a:solidFill>
                <a:srgbClr val="008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82598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Toàn bộ tài liệu XML được chuyển đổi sang mô hình đối tượng.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601"/>
              </a:spcBef>
              <a:buClr>
                <a:srgbClr val="008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Element được chuyển thành node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601"/>
              </a:spcBef>
              <a:buClr>
                <a:srgbClr val="008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Element Content tương ứng một node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601"/>
              </a:spcBef>
              <a:buClr>
                <a:srgbClr val="008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Mỗi attribute tương ứng một node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601"/>
              </a:spcBef>
              <a:buClr>
                <a:srgbClr val="008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Tùy theo từng loại node sẽ có cách lấy dữ liệu tương ứng.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601"/>
              </a:spcBef>
              <a:buClr>
                <a:srgbClr val="008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Sau khi mở tài liệu XML, toàn bộ tài liệu được thành một node. Để truy xuất đến root Node có thể dùng thuộc tính documentElement hay là firstChild.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ĐHKHTN-CNTT-Lương Hán Cơ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BAFD-18A7-4728-ABB8-B641F908970A}" type="slidenum">
              <a:t>7</a:t>
            </a:fld>
          </a:p>
        </p:txBody>
      </p:sp>
    </p:spTree>
  </p:cSld>
  <p:transition spd="med"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rebuchet MS"/>
              </a:rPr>
              <a:t>Sử dụng DOM để lấy dữ liệu</a:t>
            </a:r>
            <a:endParaRPr b="0" lang="en-US" sz="4400" spc="-1" strike="noStrike">
              <a:solidFill>
                <a:srgbClr val="008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066320"/>
            <a:ext cx="8001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 Ref"/>
              </a:rPr>
              <a:t>Mỗi node đều có 3 thuộc tính: nodeType, nodeName, và nodeValue.</a:t>
            </a:r>
            <a:endParaRPr b="0" lang="en-US" sz="20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499"/>
              </a:spcBef>
              <a:buClr>
                <a:srgbClr val="008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 Ref"/>
              </a:rPr>
              <a:t>Sử dụng thuộc tính nodeType để kiểm tra loại của node để xác định giá trị của 2 thuộc tính còn lại.</a:t>
            </a:r>
            <a:endParaRPr b="0" lang="en-US" sz="20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 Ref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3352680"/>
          <a:ext cx="8305920" cy="1866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3352680"/>
                    <a:ext cx="8305920" cy="18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ĐHKHTN-CNTT-Lương Hán Cơ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3FA3-8F21-42B4-A886-F591BA78F3EB}" type="slidenum">
              <a:t>8</a:t>
            </a:fld>
          </a:p>
        </p:txBody>
      </p:sp>
    </p:spTree>
  </p:cSld>
  <p:transition spd="med"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rebuchet MS"/>
              </a:rPr>
              <a:t>Di chuyển giữa các node</a:t>
            </a:r>
            <a:endParaRPr b="0" lang="en-US" sz="4400" spc="-1" strike="noStrike">
              <a:solidFill>
                <a:srgbClr val="008000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51055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Sử dụng các thuộc tính: parentNode, firstChild, lastChild, previousSibling, và nextSibling để truy xuất Node xác định.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childNodes trả về NodeList (danh sách các Node).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Trường hợp Node hiện tại không có node con thì firstChild, lastChild trả về giá trị null. Còn childNodes sẽ trả về NodeList rỗng.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Chỉ áp dụng đối với element, và element content.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715000" y="1447920"/>
            <a:ext cx="3114720" cy="4514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ĐHKHTN-CNTT-Lương Hán Cơ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1FC9-A7C8-488F-9BD4-6030E186587A}" type="slidenum">
              <a:t>9</a:t>
            </a:fld>
          </a:p>
        </p:txBody>
      </p:sp>
    </p:spTree>
  </p:cSld>
  <p:transition spd="med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9T12:52:08Z</dcterms:created>
  <dc:creator>Luong Han Co</dc:creator>
  <dc:description/>
  <dc:language>en-US</dc:language>
  <cp:lastModifiedBy>hanco</cp:lastModifiedBy>
  <dcterms:modified xsi:type="dcterms:W3CDTF">2006-04-19T01:22:31Z</dcterms:modified>
  <cp:revision>1779</cp:revision>
  <dc:subject/>
  <dc:title>DTD</dc:title>
</cp:coreProperties>
</file>