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ECD-DD3A-44AD-92EC-04394FF4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5DE-8512-475F-943C-0E2EE87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F29-42ED-4C09-A35E-4B2BCB4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832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12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832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12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F18-0B10-43B7-8290-A5212312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781-3F40-41EB-B821-4E8FD347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D62-77D5-4D52-9378-3AA8656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2901-61E1-4FF6-85CA-3277C87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4F3E-020B-487C-8BEE-C8A904E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169A-5093-4BBE-A5EA-7FFB6F0E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65F-1960-4806-9704-24917CC3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C818-FDD5-41D5-9C30-C77D3E9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0E5-79A0-4A0D-A696-D952076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249D-B7DB-4221-BFD9-8FFE376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447D-7FC9-4A69-8DCF-2D7D2638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082E-4D1B-47CA-859B-2E4795BC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B9E6-2B3E-4440-8C11-09EB4B3B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7832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12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7832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12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EB0-3FD5-46F0-AD6E-8ED720F1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E75-358F-40FF-88A9-AE223EEC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117-3711-435E-B522-7D55BE6C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597-1AFD-4AE7-8114-B5D4989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F01-CAB2-4FED-BEE3-9E10891B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8B7-969B-4A9E-958F-6696D73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A87-261A-4B0C-9E48-860003B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639-158A-48F2-BE74-3EAA8C4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3" marL="16002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4" marL="20574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72880" y="6535440"/>
            <a:ext cx="1904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360" y="990720"/>
            <a:ext cx="899964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5812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FBE7-96F7-4145-A812-27338FE5DBFF}" type="slidenum"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Verdana Ref"/>
              </a:rPr>
              <a:t>Click to edit the title text format</a:t>
            </a:r>
            <a:endParaRPr b="0" lang="en-US" sz="7200" spc="-1" strike="noStrike">
              <a:solidFill>
                <a:srgbClr val="00cc00"/>
              </a:solidFill>
              <a:latin typeface="Verdana Re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16676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9BD-1E7F-42BE-B972-A0AD60D4D999}" type="slidenum"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algn="ctr">
              <a:spcBef>
                <a:spcPts val="451"/>
              </a:spcBef>
              <a:buClr>
                <a:srgbClr val="008000"/>
              </a:buClr>
              <a:buFont typeface="Verdana Re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3" marL="1371600" algn="ctr">
              <a:spcBef>
                <a:spcPts val="400"/>
              </a:spcBef>
              <a:buClr>
                <a:srgbClr val="008000"/>
              </a:buClr>
              <a:buFont typeface="Verdana Re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lvl="4" marL="1828800" algn="ctr">
              <a:spcBef>
                <a:spcPts val="349"/>
              </a:spcBef>
              <a:buClr>
                <a:srgbClr val="008000"/>
              </a:buClr>
              <a:buFont typeface="Verdana Re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1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Verdana Ref"/>
              </a:rPr>
              <a:t>XML DOM</a:t>
            </a:r>
            <a:endParaRPr b="0" lang="en-US" sz="7200" spc="-1" strike="noStrike">
              <a:solidFill>
                <a:srgbClr val="00cc00"/>
              </a:solidFill>
              <a:latin typeface="Verdana Re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GV  Lương Hán Cơ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Khoa CNTT – ĐH KHTN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5590-9C1D-4075-B263-645BD312DF3E}" type="slidenum">
              <a:t>1</a:t>
            </a:fld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Lấy dữ liệu từ attributes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ử dụng thuộc tính attribut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uộc tính attributes chỉ có hiệu lực đối với node là loại element. Các trường hợp khác sẽ mang giá trị null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uộc tính attributes sẽ trả về đối tượng NamedNodeMap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ỗi phần tử trong attributes là một đối tượng node với nodeType = ATTRIBUTE_NODE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CBE-3873-47D6-B58B-F4A97E311828}" type="slidenum">
              <a:t>10</a:t>
            </a:fld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NodeList vs NamedNodeMap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2057400"/>
          <a:ext cx="8610480" cy="23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920-3F50-4F06-947E-7DE33E8D9DD7}" type="slidenum">
              <a:t>11</a:t>
            </a:fld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Thay đổi tài liệu XML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ạo nod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Node: dùng để tạo mới tất cả các loại 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Element: = createNode với loại ELEMENT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TextNode: = createNode với loại TEXT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Gắn node mới vào tài liệu XM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Cha.appendChild: thêm vào phần tử cuối cùng của danh sách childNodes của node cha.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Cha.insertBefore : thêm node mới vào trước phần tử nào đó trong childNodes của node cha.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ạo attribut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Attribute: = createNode với loại ATTRIBUTE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hêm attribute vào tài liệu XM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 setAttribute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attributes.setNamedIte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Xóa nod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removeChild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D49-3C5C-4684-9186-85B10555498B}" type="slidenum">
              <a:t>12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Nội dung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iới thiệu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ấy dữ liệu từ eleme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ấy dữ liệu từ attribut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ay đổi tài liệu XM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DCC-BD08-4181-B553-198BC73077F4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Giới th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Ứng với mỗi cấu trúc tài liệu XML phải có một cách thức để truy xuấ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 khó phát triển ứng dụ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ần xây dựng một thư viện tổng quát sử dụng cho mọi tài liệu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M (Document Object Model) được sử dụng để thao tác lên tất cả các tài liệu XML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M có nhiều phiên bản: DOM Level 1, 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</a:rPr>
              <a:t>DOM Level 2</a:t>
            </a: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, DOM Level 3 (draft)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 Ref"/>
              </a:rPr>
              <a:t>http://www.w3.org/TR/DOM-Level-2/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FE5-466A-4EC4-9884-12AC081688C4}" type="slidenum">
              <a:t>3</a:t>
            </a:fld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Ví dụ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order number="312597"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date&gt;2000/1/1&lt;/date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customer id="216A"&gt;Company A&lt;/customer&gt; 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part-number warehouse="Warehouse 11"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E16-25A&lt;/part-number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description&gt;Production-Class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Widget&lt;/description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quantity&gt;16&lt;/quantity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/order&gt;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78520" y="304920"/>
            <a:ext cx="316548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E80-1941-4AF1-9A15-D1C0768BAD65}" type="slidenum">
              <a:t>4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Giới th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XML DOM đóng vai trò như lớp giao tiếp ở giữa của chương trình ứng dụng và XML parser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16028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F1B-DCB6-463F-BC64-14C362F92EF3}" type="slidenum">
              <a:t>5</a:t>
            </a:fld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Tạo đối tượng DOM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Java script: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var oDOM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 = new ActiveXObject("MSXML.DOMDocument")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.async = false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.load("domnode.xml"); 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06F-AFB5-4BA4-85E7-09D7ADB6F9A3}" type="slidenum">
              <a:t>6</a:t>
            </a:fld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Sử dụng DOM để lấy dữ l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oàn bộ tài liệu XML được chuyển đổi sang mô hình đối tượ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lement được chuyển thành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lement Content tương ứng một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ỗi attribute tương ứng một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ùy theo từng loại node sẽ có cách lấy dữ liệu tương ứ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au khi mở tài liệu XML, toàn bộ tài liệu được thành một node. Để truy xuất đến root Node có thể dùng thuộc tính documentElement hay là firstChild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3A4-1EF2-427A-8A59-C9BE7A73EB9C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Sử dụng DOM để lấy dữ l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ỗi node đều có 3 thuộc tính: nodeType, nodeName, và nodeValue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Sử dụng thuộc tính nodeType để kiểm tra loại của node để xác định giá trị của 2 thuộc tính còn lại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3352680"/>
          <a:ext cx="8305920" cy="18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786-EFC3-4AE3-999A-2B881AD13C22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Di chuyển giữa các node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ử dụng các thuộc tính: parentNode, firstChild, lastChild, previousSibling, và nextSibling để truy xuất Node xác định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hildNodes trả về NodeList (danh sách các Node)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rường hợp Node hiện tại không có node con thì firstChild, lastChild trả về giá trị null. Còn childNodes sẽ trả về NodeList rỗ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hỉ áp dụng đối với element, và element content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11472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B2C-F5BA-41EA-9098-08A29CBEDB72}" type="slidenum">
              <a:t>9</a:t>
            </a:fld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2:52:08Z</dcterms:created>
  <dc:creator>Luong Han Co</dc:creator>
  <dc:description/>
  <dc:language>en-US</dc:language>
  <cp:lastModifiedBy>hanco</cp:lastModifiedBy>
  <dcterms:modified xsi:type="dcterms:W3CDTF">2006-04-19T01:22:31Z</dcterms:modified>
  <cp:revision>1779</cp:revision>
  <dc:subject/>
  <dc:title>DTD</dc:title>
</cp:coreProperties>
</file>