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3F4-2D06-41D8-8D66-F2857391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A64-BF9D-4E51-B8B7-3E064A8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E1D-1580-4EB3-A240-89E96E65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86D-2099-4850-9EDF-5C539C03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46B6-16AE-406F-ADFF-C549C121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814-6EEE-4BAD-93E0-D21F4A0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6EEA-8B43-4F31-9B61-CC74FAA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EF1F-390B-4F72-ABB9-FEF0F2C8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E8DC-4B3C-43F5-B8CF-4C1503FF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DE4E-B3E9-49E2-9598-0AC613D8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4D7-AB23-425C-8E74-8EB214A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A8D-D514-4B9B-B5AC-6CBC4E9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4B3E-529E-4F24-976A-1A3C67AC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1E61-15B0-4025-AAFE-0124A26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50AE-616E-4035-B53E-2C3CF0F2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77C6-5477-4D95-A0CD-005CE79A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50BA-55F4-4DE7-BE0D-B658FE6E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225E-18A3-4FAE-B94D-9F2D0022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7635B-C2BB-4EF0-B9FA-132FAC6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5160-74F7-4A89-B201-1E4E255D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37DE-058B-4636-870F-0F673722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E4D8-DD04-4A08-930A-C5925DC5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5B9-1EFD-4508-A09B-B14D46AB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DA80-D27B-4A12-84D6-DCA2F8D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7BA2-BC9F-4021-8F4E-BAA5FED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2D8E-C9B7-4793-8E35-CB15771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711B-58CF-44D5-B209-63F48E0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D527-5ECD-4642-92C3-614DE10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23CF-8B18-40B6-AF92-53B12E31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F134-5F57-4431-8088-866357F0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91E3-E4D2-4744-AB51-1B7B04F3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00FC-6113-4D3E-9D70-C947613A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728A-2AA4-4730-AA54-9588617B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9DA-25F2-4D4D-B04C-1A9570EA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6E70-ADBD-4E24-934C-F52EB14F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1F9B-70BD-473D-AB03-4608B8BB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2776-19DF-4EE2-8C55-FE8B8C6E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ADBC-4ED5-42DE-B503-E75D92B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C0E2-88BA-43B4-866E-A46917B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DB9C-5193-4E10-AEC0-2D2606FA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619D-6CD1-45CD-9A18-1696DD7B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6D89-C3DB-47DB-AF89-B64827CB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409B2-5F13-407F-87D9-71828533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68B-913C-489A-9A73-BA5CD170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FCF-4EED-4459-A641-31C020B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D47-C81F-4F4D-A6F6-CCA48CF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F8A-E5A2-4FD3-9AD4-89517CF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839-51E3-49C5-8928-C506198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F0BB-00F4-438F-B440-DBFE2874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111-9C40-47DA-96BD-5DD2CACC53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4D5-2A44-4716-9FDB-2E689525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0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1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B146-AA1A-43EB-9388-C4DAEC11F4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areer planning [process"/>
          <p:cNvPicPr/>
          <p:nvPr/>
        </p:nvPicPr>
        <p:blipFill>
          <a:blip r:embed="rId1"/>
          <a:stretch/>
        </p:blipFill>
        <p:spPr>
          <a:xfrm>
            <a:off x="0" y="1905120"/>
            <a:ext cx="6705720" cy="4495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areer planning question 2"/>
          <p:cNvPicPr/>
          <p:nvPr/>
        </p:nvPicPr>
        <p:blipFill>
          <a:blip r:embed="rId2"/>
          <a:stretch/>
        </p:blipFill>
        <p:spPr>
          <a:xfrm>
            <a:off x="2209680" y="45720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35B-0B4D-4E29-9CAA-92C001923F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2590920" y="5257800"/>
            <a:ext cx="64008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6000"/>
                  </a:srgbClr>
                </a:solidFill>
                <a:latin typeface="Impact"/>
              </a:rPr>
              <a:t>CAREER PLANNING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6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6692-79D1-4126-A2AB-003CB7BED5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ajari semua peraturan dan sistem dan prosedur kerja yang berla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usaha selalu berperilaku sesuai dengan aturan dan peraturan ang berla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usaha bekerja dengan sebaik-baik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hakan mendapat nilai terbaik dalam penilaan kiner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87 E">
                                      <p:cBhvr>
                                        <p:cTn id="39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F2F-0F92-4202-8A1D-3F47E0B551A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KAH MENITI KAR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AJAR, BELAJAR, BELAJ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 BELA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y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ajar dari rekan 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ajar dari super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aca, membaca, memba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ut pelatihan (job trai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rsus, studi lanjut, BJJ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00"/>
                            </p:stCondLst>
                            <p:childTnLst>
                              <p:par>
                                <p:cTn id="4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7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7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7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700"/>
                            </p:stCondLst>
                            <p:childTnLst>
                              <p:par>
                                <p:cTn id="4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7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4700"/>
                            </p:stCondLst>
                            <p:childTnLst>
                              <p:par>
                                <p:cTn id="4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7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0516-C6A1-4121-9C5B-3D92AC8C2F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IKA KONDISI TIDAK SESU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I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erima keada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cari pekerjaan l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AM HAL MENCARI PEKERJAAN LA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sung mengundurkan dir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ap bekerja, sambil berbur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erjaan 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114800" cy="2743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individu bertanggung jawab merancang karirnya sendi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16" descr="careers 8"/>
          <p:cNvPicPr/>
          <p:nvPr/>
        </p:nvPicPr>
        <p:blipFill>
          <a:blip r:embed="rId2"/>
          <a:stretch/>
        </p:blipFill>
        <p:spPr>
          <a:xfrm>
            <a:off x="6095880" y="762120"/>
            <a:ext cx="2714760" cy="2590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8" descr="CAREER JUMP.jpg"/>
          <p:cNvPicPr/>
          <p:nvPr/>
        </p:nvPicPr>
        <p:blipFill>
          <a:blip r:embed="rId3"/>
          <a:stretch/>
        </p:blipFill>
        <p:spPr>
          <a:xfrm>
            <a:off x="3352680" y="2819520"/>
            <a:ext cx="2210040" cy="274320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5802-1F16-41E0-9260-3D8285AAE9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124080" y="5638680"/>
            <a:ext cx="16765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T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114800" y="4876920"/>
            <a:ext cx="11430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724280" y="411480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5562720" y="3352680"/>
            <a:ext cx="1143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6400800" y="2590920"/>
            <a:ext cx="190512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AutoShape 18"/>
          <p:cNvSpPr/>
          <p:nvPr/>
        </p:nvSpPr>
        <p:spPr>
          <a:xfrm>
            <a:off x="2209680" y="60199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15" descr="CAREER PLN 2.jpg"/>
          <p:cNvPicPr/>
          <p:nvPr/>
        </p:nvPicPr>
        <p:blipFill>
          <a:blip r:embed="rId4"/>
          <a:stretch/>
        </p:blipFill>
        <p:spPr>
          <a:xfrm>
            <a:off x="5867280" y="41148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98" name="Content Placeholder 17" descr="EMPLOYEE TERMINATION.jpg"/>
          <p:cNvPicPr/>
          <p:nvPr/>
        </p:nvPicPr>
        <p:blipFill>
          <a:blip r:embed="rId5"/>
          <a:stretch/>
        </p:blipFill>
        <p:spPr>
          <a:xfrm>
            <a:off x="228600" y="4724280"/>
            <a:ext cx="1905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3" descr="careers 3"/>
          <p:cNvPicPr/>
          <p:nvPr/>
        </p:nvPicPr>
        <p:blipFill>
          <a:blip r:embed="rId1"/>
          <a:stretch/>
        </p:blipFill>
        <p:spPr>
          <a:xfrm>
            <a:off x="2666880" y="205740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RECRUITMENT 1 ndex.jpg"/>
          <p:cNvPicPr/>
          <p:nvPr/>
        </p:nvPicPr>
        <p:blipFill>
          <a:blip r:embed="rId2"/>
          <a:stretch/>
        </p:blipFill>
        <p:spPr>
          <a:xfrm>
            <a:off x="5791320" y="457200"/>
            <a:ext cx="2819160" cy="2590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4" descr="carr dev 22.jpg"/>
          <p:cNvPicPr/>
          <p:nvPr/>
        </p:nvPicPr>
        <p:blipFill>
          <a:blip r:embed="rId3"/>
          <a:stretch/>
        </p:blipFill>
        <p:spPr>
          <a:xfrm>
            <a:off x="914400" y="457200"/>
            <a:ext cx="1809720" cy="25336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0"/>
          <p:cNvSpPr/>
          <p:nvPr/>
        </p:nvSpPr>
        <p:spPr>
          <a:xfrm>
            <a:off x="1046160" y="22096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6036480" y="23623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ORGANISA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609480" y="3048120"/>
            <a:ext cx="2667240" cy="1828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I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NGETAHU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PRIBADI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KAT &amp; MIN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S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5791320" y="3124080"/>
            <a:ext cx="2895480" cy="1752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KERJA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ASANA KERJ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J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LUANG BERKEMBA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LUANG MENITI KAR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352680" y="2209680"/>
            <a:ext cx="2286000" cy="1524240"/>
          </a:xfrm>
          <a:prstGeom prst="leftRightArrow">
            <a:avLst>
              <a:gd name="adj1" fmla="val 50000"/>
              <a:gd name="adj2" fmla="val 2985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CH?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2895480" y="5791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YOURSEL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EEF-57E8-4DA5-BE46-C7CDA6DA40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7"/>
          <p:cNvSpPr/>
          <p:nvPr/>
        </p:nvSpPr>
        <p:spPr>
          <a:xfrm flipH="1" flipV="1">
            <a:off x="2132640" y="1219320"/>
            <a:ext cx="5257800" cy="4038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04920" y="7621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HARD SKI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amp; SOFT SKIL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5791320" y="9144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IGH MOTI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76720" y="4572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3429000" y="1219320"/>
            <a:ext cx="2743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2"/>
          <p:cNvSpPr/>
          <p:nvPr/>
        </p:nvSpPr>
        <p:spPr>
          <a:xfrm flipH="1">
            <a:off x="5257440" y="2057400"/>
            <a:ext cx="1600200" cy="2438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 flipH="1" flipV="1">
            <a:off x="2742840" y="2133720"/>
            <a:ext cx="1523880" cy="228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13" descr="GOOD WORKER"/>
          <p:cNvPicPr/>
          <p:nvPr/>
        </p:nvPicPr>
        <p:blipFill>
          <a:blip r:embed="rId1"/>
          <a:stretch/>
        </p:blipFill>
        <p:spPr>
          <a:xfrm>
            <a:off x="3809880" y="13716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GOOD WORKER"/>
          <p:cNvPicPr/>
          <p:nvPr/>
        </p:nvPicPr>
        <p:blipFill>
          <a:blip r:embed="rId2"/>
          <a:stretch/>
        </p:blipFill>
        <p:spPr>
          <a:xfrm>
            <a:off x="30492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1603-3D16-4849-A995-10E582C107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GKAH MERANCANG KA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05520" y="2133360"/>
            <a:ext cx="3200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CAREER LADDER.jpg"/>
          <p:cNvPicPr/>
          <p:nvPr/>
        </p:nvPicPr>
        <p:blipFill>
          <a:blip r:embed="rId5"/>
          <a:stretch/>
        </p:blipFill>
        <p:spPr>
          <a:xfrm>
            <a:off x="838080" y="1752480"/>
            <a:ext cx="3886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CC2-2218-45B0-9173-6CB8B4C467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4419720" cy="803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6" descr="GOOD GUY"/>
          <p:cNvPicPr/>
          <p:nvPr/>
        </p:nvPicPr>
        <p:blipFill>
          <a:blip r:embed="rId1"/>
          <a:stretch/>
        </p:blipFill>
        <p:spPr>
          <a:xfrm>
            <a:off x="5105520" y="106668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4648320" cy="41907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si diri (KEY SELLING POI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mampuan (har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kat bawa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ersonal trait/ sof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ilih pekerjaan yang paling cocok deng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ard ski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 tr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D7F2-2B58-472A-86A9-70FACB54AE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4343400" cy="7621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4419360" cy="3581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ilih pekerjaan yang paling cocok dengan skill dan personal 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ilih organisasi (perusaha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ilih lokasi (ko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7" descr="CAREER OPTION"/>
          <p:cNvPicPr/>
          <p:nvPr/>
        </p:nvPicPr>
        <p:blipFill>
          <a:blip r:embed="rId4"/>
          <a:stretch/>
        </p:blipFill>
        <p:spPr>
          <a:xfrm>
            <a:off x="4800600" y="9144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609-3A94-4689-91A4-074BDF11F6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108080"/>
            <a:ext cx="4267080" cy="735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2022120"/>
            <a:ext cx="4343400" cy="4530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uat resume dan cover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resume dan cover letter untuk pekerjaan yang berbe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irim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su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cover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apkan diri untuk wawanc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6" descr="RESUME SUBMIT"/>
          <p:cNvPicPr/>
          <p:nvPr/>
        </p:nvPicPr>
        <p:blipFill>
          <a:blip r:embed="rId5"/>
          <a:stretch/>
        </p:blipFill>
        <p:spPr>
          <a:xfrm>
            <a:off x="4876920" y="1108080"/>
            <a:ext cx="3962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83A-F085-4276-8B58-934C1D4666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si realita lingkungan kerj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ajari diskripsi jaba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si hubungan dengan  rek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ker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si hubungan dengan ata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si gaji dan fasilit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☺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ajari peluang kar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7:55Z</dcterms:created>
  <dc:creator>AA YKPN</dc:creator>
  <dc:description/>
  <dc:language>en-US</dc:language>
  <cp:lastModifiedBy>RTD</cp:lastModifiedBy>
  <dcterms:modified xsi:type="dcterms:W3CDTF">2011-05-16T02:13:05Z</dcterms:modified>
  <cp:revision>14</cp:revision>
  <dc:subject/>
  <dc:title>Slide 1</dc:title>
</cp:coreProperties>
</file>