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.gif" ContentType="image/gif"/>
  <Override PartName="/ppt/media/image5.jpeg" ContentType="image/jpeg"/>
  <Override PartName="/ppt/media/image19.gif" ContentType="image/gif"/>
  <Override PartName="/ppt/media/image1.gif" ContentType="image/gif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2.jpeg" ContentType="image/jpeg"/>
  <Override PartName="/ppt/media/voltage.wav" ContentType="audio/x-wav"/>
  <Override PartName="/ppt/media/image7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4AF7-FF68-4046-9463-62DC62BFC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88A1-6E7D-44DC-98DC-7C6D6893B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EEC4-EC1C-4F86-A13D-FCAB03480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DD72-9597-4137-B49E-AC06B35C7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93FB-79AD-4F53-AB44-29FE5C8DB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1413-5699-4C27-8071-523560AD7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4732-B44B-4056-B58F-C59A1F152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2E0F-3DE9-417F-8C39-68A2D7F92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8CA3-6334-43A4-B4BC-6921580DB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B1C1-63E4-4557-9A02-18108EB2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FF7B-75E4-462F-BC2C-93F1A045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72B1-BA7D-4B0A-B2EE-8A08DE76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87FA1-2EC3-4EC4-935F-40382577922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00320" y="3767040"/>
            <a:ext cx="780840" cy="542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684360" y="1341360"/>
            <a:ext cx="7993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Bizarre Tocht van Reneetj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804000" y="414972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5076720" y="5229360"/>
            <a:ext cx="3600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Raymond's Powerpoint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64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8390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91540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55640" y="5157720"/>
            <a:ext cx="7943760" cy="725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En zo is ons Reneetje weer veilig aan de gro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979640" y="587700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500" fill="hold"/>
                                        <p:tgtEl>
                                          <p:spTgt spid="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49734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687920" cy="62481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105520" y="1219320"/>
            <a:ext cx="37162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802040" cy="6400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243320" y="228600"/>
            <a:ext cx="46879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80204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3T14:28:39Z</dcterms:created>
  <dc:creator>Etienne Smeets</dc:creator>
  <dc:description>More Fun On www.bizarsite.nl ;-)</dc:description>
  <dc:language>en-US</dc:language>
  <cp:lastModifiedBy>Smets</cp:lastModifiedBy>
  <dcterms:modified xsi:type="dcterms:W3CDTF">2008-10-31T03:31:35Z</dcterms:modified>
  <cp:revision>2</cp:revision>
  <dc:subject/>
  <dc:title>Dia 1</dc:title>
</cp:coreProperties>
</file>