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19.gif" ContentType="image/gif"/>
  <Override PartName="/ppt/media/image1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12.jpeg" ContentType="image/jpeg"/>
  <Override PartName="/ppt/media/voltage.wav" ContentType="audio/x-wav"/>
  <Override PartName="/ppt/media/image7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16D-35D6-4F75-A058-CC6BC9C7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334C-CF43-49B2-8C86-BF91C912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D2BD-21A3-4FF4-95F2-39252A73C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85CB-A84A-40A5-86A9-49323799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F2B6-9D33-49A7-8D91-CFCFF753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4D19-7874-44CF-B5FF-503EEEF0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8CD-F139-4CA1-89F4-BA9DEE0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B9F-26C5-4899-8725-DEDDF12B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D9F4-9E8C-4CAF-BF6F-492FD43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27F0-10FC-44FF-B453-C54803A0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0F24-CD8D-4265-997D-5EBC5BDA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E89C-D1BC-419A-A355-8F7EA689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D207-C3DA-4CE3-A9F5-228D1FFECD9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00320" y="3767040"/>
            <a:ext cx="780840" cy="542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134136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Bizarre Tocht van Reneetj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04000" y="41497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5076720" y="5229360"/>
            <a:ext cx="3600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aymond's Powerpoint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9154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55640" y="5157720"/>
            <a:ext cx="7943760" cy="725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n zo is ons Reneetje weer veilig aan de gro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33720" y="0"/>
            <a:ext cx="4973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687920" cy="6248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05520" y="1219320"/>
            <a:ext cx="3716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2040" cy="6400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43320" y="228600"/>
            <a:ext cx="46879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802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14:28:39Z</dcterms:created>
  <dc:creator>Etienne Smeets</dc:creator>
  <dc:description>More Fun On www.bizarsite.nl ;-)</dc:description>
  <dc:language>en-US</dc:language>
  <cp:lastModifiedBy>Smets</cp:lastModifiedBy>
  <dcterms:modified xsi:type="dcterms:W3CDTF">2008-10-31T03:31:35Z</dcterms:modified>
  <cp:revision>2</cp:revision>
  <dc:subject/>
  <dc:title>Dia 1</dc:title>
</cp:coreProperties>
</file>