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E21-5B47-4CD2-9B6F-106DCE4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8D0-8B0A-4D40-B6D6-A4830F0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A74-131C-445C-83C2-891DB797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D20-2885-47DF-BEFC-01204B88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6A58D-A44F-4B98-9FBB-17D1667A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00EF-4873-4072-B2DD-D60F77C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6FF90-E201-4E74-BD15-CE73709F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43C3B-CF10-43F6-92BE-7CB0112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311AB-8DF5-4DD9-A921-02F5D36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675D4-E821-4EE5-8CAB-DF1BBF8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3A0A7-495C-49E1-84A7-08CB21D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19-AB25-49B4-B13C-4EF413E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9578-3B06-444F-9680-30691C4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565D-2B8A-4A25-922E-19B8CF2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E8F36-207D-4083-9C23-50C046E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9F7A1-6804-43BC-B97B-926E0ECA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22A41-03DC-405B-AE72-461B51B8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441-553A-43B1-9A12-1B8A7CE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61C-216D-4779-B4CE-4F9F8A6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E7F-095C-4F97-9E2F-C540E0E6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93A-E597-40AB-8B1E-86204E1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0D0-3880-4D21-8475-BB941FF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B6D-D516-498C-AD46-B87FD8F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98F-15F6-452D-B992-F7FAA26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1E8-7DB5-4952-8CAA-74AFB1CCB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AD1-87B9-4142-889A-75C76DEF9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5280" y="692280"/>
            <a:ext cx="59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ZHUN de Bousou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55640" y="3789000"/>
            <a:ext cx="7920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ntroduction Géné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bjectifs des Opérations des ZHU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ématique de la Création de la ZHUN de Boussou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87640" y="2492280"/>
            <a:ext cx="32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mmai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Tahoma"/>
              </a:rPr>
              <a:t>Étude de la ZHUN N de Boussouf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352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Les limites  de la cité Boussou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Éléments de  Programme de la ZHUN de Boussouf 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35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’habitat Collecti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Situation de la cité Boussou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’habitat Individu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Tahoma"/>
              </a:rPr>
              <a:t>I- Géotechnique et Contraintes Naturelles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Introduction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itholog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État des Lieu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Géotechniq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lim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ro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Séismici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Hydrolog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I- Analyse Urbaine de la ZHUN de Boussouf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lation de la ZHUN avec son Environnement Immédi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ganisation de  la ZHUN de Boussou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ccupation de l’espace a l’intérieur de la ZHUN 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bit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Équipem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Voir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Espaces Lib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éseau de Gaz et d’Électricit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sainissement et AE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cation et Caractéristiqu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ture de l’Occupation et de l’Utilisation de Sol Autorisé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ccupation et Utilisation des Sol Interdi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cès et Voir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serte  par les Réseaux 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E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ssainissement des  Eaux Usées et Ménagé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aux Pluvia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Électricité / Raccordement en Énergie Électriqu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pproch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 Transpor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51640"/>
            <a:ext cx="8353440" cy="66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II- Analyse Architectural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lantation des Constructions par rapport aux voies et emprise publiq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’implantation des Constructions par rapport aux limites séparati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uteur des Constru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efficient  d’occupation des S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efficient d’emprise au S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n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pace Extérieur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Coul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Matériau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Ouver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aitement des Faç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paces Libres et Pla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ints de Repair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V- Site et Sitiologie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çade Urba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 Silhouet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77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43280" y="2349360"/>
            <a:ext cx="260028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Bibliographie</a:t>
            </a:r>
            <a:endParaRPr b="1" i="1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" y="3818160"/>
            <a:ext cx="680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D de Constantine 1982  Ur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sier ZHUN de Boussou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èse de fin de Cycle (Institut de Science de la Ter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du Laboratoire de l’Est 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CTC de Constantin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950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du Laboratoire de LTP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950"/>
              <a:buBlip>
                <a:blip r:embed="rId9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87640" y="907920"/>
            <a:ext cx="2521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Conclusion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9:54:23Z</dcterms:created>
  <dc:creator>dar asalam</dc:creator>
  <dc:description/>
  <dc:language>en-US</dc:language>
  <cp:lastModifiedBy>nesrine</cp:lastModifiedBy>
  <dcterms:modified xsi:type="dcterms:W3CDTF">2007-05-01T21:15:19Z</dcterms:modified>
  <cp:revision>11</cp:revision>
  <dc:subject/>
  <dc:title>La ZUNH de Bousouf</dc:title>
</cp:coreProperties>
</file>