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0AC8-F6F6-48AA-AF80-8D32175BC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AAF0-76D1-458C-ABF2-7A9E0159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1877-3AF1-489E-B1B3-C676FF0D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EE71-1A07-45C5-B95A-64AA43AD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2782B-94C4-41F0-87D2-286366531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9658D-3C85-45EB-9E60-B6C4EA66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3C458-6650-4BF4-ADAD-E83E6ECD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78E4D-6A8A-4D46-832B-CECBFC2B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2F499-5BB7-489D-9509-C38C9D6E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9404F-124E-4949-BAF2-594A59D4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24BF2-2AB5-4EC4-B873-D916F08A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4D17-D350-4E8A-81CF-759FFB1A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5BB63-F1FD-4E19-89C4-E4C04B99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45623-F8FB-45FF-B394-EBE7D778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C3E7D-CC5C-4DAF-88CE-6081145F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78A10-3AC0-4102-AB8F-EEF3BDA11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26D00-5583-4DC9-A2B7-38375421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FAA5-9A89-416F-A505-2DB06EB2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7CDC-A398-4D26-BE10-4456C04F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77B5-B63F-45F5-B608-301618BB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2C8D-BDB9-4F74-8AFE-90ED0E22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D92A-BA5C-4870-93DC-31411A44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BCDE-AD9D-4C46-88BE-C2D2F66C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0E5C-D840-4FC0-B763-ED49686F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CEE5-F92A-4958-B208-84036AD5CD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A94E-4B4D-4AA9-8039-FAE027C240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5280" y="692280"/>
            <a:ext cx="5905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 ZHUN de Bousouf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755640" y="3789000"/>
            <a:ext cx="79200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12880" indent="-81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ahoma"/>
              </a:rPr>
              <a:t>Introduction Géné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Objectifs des Opérations des ZHU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oblématique de la Création de la ZHUN de Boussouf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987640" y="2492280"/>
            <a:ext cx="3240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sommair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2803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cc00"/>
                </a:solidFill>
                <a:latin typeface="Tahoma"/>
              </a:rPr>
              <a:t>Étude de la ZHUN N de Boussouf 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2352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Les limites  de la cité Boussou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778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Éléments de  Programme de la ZHUN de Boussouf 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352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L’habitat Collectif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Situation de la cité Boussouf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778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L’habitat Individue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cc00"/>
                </a:solidFill>
                <a:latin typeface="Tahoma"/>
              </a:rPr>
              <a:t>I- Géotechnique et Contraintes Naturelles 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Introduction.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Lithologi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État des Lieux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P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Géotechniqu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Clima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Eros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Séismicité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Hydrologi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9640" y="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cc00"/>
                </a:solidFill>
                <a:latin typeface="Tahoma"/>
              </a:rPr>
              <a:t>II- Analyse Urbaine de la ZHUN de Boussouf 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lation de la ZHUN avec son Environnement Immédia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rganisation de  la ZHUN de Boussou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ccupation de l’espace a l’intérieur de la ZHUN 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Habita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es Équipement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a Voiri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es Espaces Libr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éseau de Gaz et d’Électricité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ssainissement et AEP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ocation et Caractéristiqu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ature de l’Occupation et de l’Utilisation de Sol Autorisé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ccupation et Utilisation des Sol Interdi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ccès et Voiri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sserte  par les Réseaux 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EP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ssainissement des  Eaux Usées et Ménagé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Eaux Pluvial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Électricité / Raccordement en Énergie Électriqu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pproch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e Transpor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251640"/>
            <a:ext cx="8353440" cy="66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5716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ahoma"/>
              </a:rPr>
              <a:t>III- Analyse Architectural 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5716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cc00"/>
              </a:buClr>
              <a:buFont typeface="Tahoma"/>
              <a:buAutoNum type="arabicPeriod"/>
              <a:tabLst>
                <a:tab algn="l" pos="5716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mplantation des Constructions par rapport aux voies et emprise publiq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cc00"/>
              </a:buClr>
              <a:buFont typeface="Tahoma"/>
              <a:buAutoNum type="arabicPeriod"/>
              <a:tabLst>
                <a:tab algn="l" pos="5716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’implantation des Constructions par rapport aux limites séparativ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cc00"/>
              </a:buClr>
              <a:buFont typeface="Tahoma"/>
              <a:buAutoNum type="arabicPeriod"/>
              <a:tabLst>
                <a:tab algn="l" pos="5716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Hauteur des Construc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cc00"/>
              </a:buClr>
              <a:buFont typeface="Tahoma"/>
              <a:buAutoNum type="arabicPeriod"/>
              <a:tabLst>
                <a:tab algn="l" pos="5716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oefficient  d’occupation des So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cc00"/>
              </a:buClr>
              <a:buFont typeface="Tahoma"/>
              <a:buAutoNum type="arabicPeriod"/>
              <a:tabLst>
                <a:tab algn="l" pos="5716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oefficient d’emprise au So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cc00"/>
              </a:buClr>
              <a:buFont typeface="Tahoma"/>
              <a:buAutoNum type="arabicPeriod"/>
              <a:tabLst>
                <a:tab algn="l" pos="5716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ationne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cc00"/>
              </a:buClr>
              <a:buFont typeface="Tahoma"/>
              <a:buAutoNum type="arabicPeriod"/>
              <a:tabLst>
                <a:tab algn="l" pos="5716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space Extérieur 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5716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es Couleu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5716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es Matériaux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5716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es Ouver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5716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raitement des Faça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5716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spaces Libres et Plant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5716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oints de Repair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lphaLcPeriod"/>
              <a:tabLst>
                <a:tab algn="l" pos="5716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5716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ahoma"/>
              </a:rPr>
              <a:t>V- Site et Sitiologie 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cc00"/>
              </a:buClr>
              <a:buFont typeface="Tahoma"/>
              <a:buAutoNum type="arabicPeriod"/>
              <a:tabLst>
                <a:tab algn="l" pos="5716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açade Urbai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cc00"/>
              </a:buClr>
              <a:buFont typeface="Tahoma"/>
              <a:buAutoNum type="arabicPeriod"/>
              <a:tabLst>
                <a:tab algn="l" pos="5716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a  Silhouet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cc00"/>
              </a:buClr>
              <a:buFont typeface="Tahoma"/>
              <a:buAutoNum type="arabicPeriod"/>
              <a:tabLst>
                <a:tab algn="l" pos="5716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ontou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5716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77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843280" y="2349360"/>
            <a:ext cx="2600280" cy="110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Times New Roman"/>
              </a:rPr>
              <a:t>Bibliographie</a:t>
            </a:r>
            <a:endParaRPr b="1" i="1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Times New Roman"/>
              <a:ea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1200" y="3818160"/>
            <a:ext cx="6809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SzPct val="102792"/>
              <a:buBlip>
                <a:blip r:embed="rId2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UD de Constantine 1982  Urb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792"/>
              <a:buBlip>
                <a:blip r:embed="rId3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ossier ZHUN de Boussou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792"/>
              <a:buBlip>
                <a:blip r:embed="rId4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èse de fin de Cycle (Institut de Science de la Ter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792"/>
              <a:buBlip>
                <a:blip r:embed="rId5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ondage du Laboratoire de l’Est 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792"/>
              <a:buBlip>
                <a:blip r:embed="rId6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ondage CTC de Constantine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950"/>
              <a:buBlip>
                <a:blip r:embed="rId7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792"/>
              <a:buBlip>
                <a:blip r:embed="rId8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ondage du Laboratoire de LTP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950"/>
              <a:buBlip>
                <a:blip r:embed="rId9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987640" y="907920"/>
            <a:ext cx="252108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Times New Roman"/>
              </a:rPr>
              <a:t>Conclusion</a:t>
            </a:r>
            <a:endParaRPr b="0" i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7T09:54:23Z</dcterms:created>
  <dc:creator>dar asalam</dc:creator>
  <dc:description/>
  <dc:language>en-US</dc:language>
  <cp:lastModifiedBy>nesrine</cp:lastModifiedBy>
  <dcterms:modified xsi:type="dcterms:W3CDTF">2007-05-01T21:15:19Z</dcterms:modified>
  <cp:revision>11</cp:revision>
  <dc:subject/>
  <dc:title>La ZUNH de Bousouf</dc:title>
</cp:coreProperties>
</file>