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BB4-4003-4699-A793-8C6D2361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8CC-5999-4B7B-A278-5EDBE761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8A9-D4D0-4DBC-915C-35BA581B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DA8-D398-4472-934F-F187AC0D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F8D-982D-4AC4-A0A1-A12EB8A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E20-421C-4AE8-AAD9-A066D106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A2B-A4A5-45CC-AE35-F213D81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0A4-8363-4DEA-8120-7475FCF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7D5-F2AB-4504-B70D-94EF4E08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EAC-2BC6-4F53-BC12-EFBBD860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B89-EC70-48D3-86EC-DC7EA072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555-844C-4188-A589-92A80F1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BEAE-3E3D-4D8D-8F7B-54C8E83C69C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99"/>
            </a:gs>
            <a:gs pos="50000">
              <a:srgbClr val="ff3399"/>
            </a:gs>
            <a:gs pos="100000">
              <a:srgbClr val="99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443320"/>
            <a:ext cx="78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Comic Sans MS"/>
              </a:rPr>
              <a:t>Glandes exocri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A. Bouaz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6200" y="7873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Morphologie de la portion sécrét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442200" cy="375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300720" y="234936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276640"/>
            <a:ext cx="1295640" cy="3095640"/>
          </a:xfrm>
          <a:prstGeom prst="rect">
            <a:avLst/>
          </a:prstGeom>
          <a:noFill/>
          <a:ln w="698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948360" y="5300640"/>
            <a:ext cx="0" cy="6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276640"/>
            <a:ext cx="914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276640"/>
            <a:ext cx="914400" cy="3097080"/>
          </a:xfrm>
          <a:prstGeom prst="rect">
            <a:avLst/>
          </a:prstGeom>
          <a:noFill/>
          <a:ln w="698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24360" y="5229360"/>
            <a:ext cx="0" cy="1224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276640"/>
            <a:ext cx="3744720" cy="3097080"/>
          </a:xfrm>
          <a:prstGeom prst="rect">
            <a:avLst/>
          </a:prstGeom>
          <a:noFill/>
          <a:ln w="730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987640" y="5229000"/>
            <a:ext cx="0" cy="9363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595008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lvé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64612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Acin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6165720"/>
            <a:ext cx="217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omic Sans MS"/>
              </a:rPr>
              <a:t>Tubul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6200" y="787320"/>
            <a:ext cx="858852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0000"/>
                </a:solidFill>
                <a:uFillTx/>
                <a:latin typeface="Comic Sans MS"/>
              </a:rPr>
              <a:t>R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Comic Sans MS"/>
              </a:rPr>
              <a:t>La lumière de la glande alvéolaire est nettement plus grande que celle de la glande acine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333360"/>
            <a:ext cx="81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Comic Sans MS"/>
              </a:rPr>
              <a:t>Morphologie du canal excré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3141720" cy="365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4355640" y="2637000"/>
            <a:ext cx="1800360" cy="0"/>
          </a:xfrm>
          <a:prstGeom prst="line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2421000"/>
            <a:ext cx="25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99"/>
                </a:solidFill>
                <a:latin typeface="Comic Sans MS"/>
              </a:rPr>
              <a:t>1 canal excré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27640" y="4076640"/>
            <a:ext cx="172872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393372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1 portion sécré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568476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Glande simple (1 c. + P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4200480" cy="4486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2842920" y="1700280"/>
            <a:ext cx="352908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148428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Comic Sans MS"/>
              </a:rPr>
              <a:t>1 canal excré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39640" y="3284640"/>
            <a:ext cx="4032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00000" y="3284640"/>
            <a:ext cx="3600360" cy="64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572000" y="3284640"/>
            <a:ext cx="1728720" cy="865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3068640"/>
            <a:ext cx="239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lusieurs portions sécré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5516640"/>
            <a:ext cx="8300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Glande exocrine simple ramifié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omic Sans MS"/>
              </a:rPr>
              <a:t>(1 canal + plusieurs portions sécré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4894200" cy="3579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211280" y="1916280"/>
            <a:ext cx="25923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80000" y="1916280"/>
            <a:ext cx="3024000" cy="100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1916280"/>
            <a:ext cx="2232000" cy="93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1484280"/>
            <a:ext cx="203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Comic Sans MS"/>
              </a:rPr>
              <a:t>Plusieurs canaux excré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724360" y="3141720"/>
            <a:ext cx="1224000" cy="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58920" y="3141720"/>
            <a:ext cx="3889080" cy="57456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8920" y="3141720"/>
            <a:ext cx="2089080" cy="7920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2781360"/>
            <a:ext cx="182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Comic Sans MS"/>
              </a:rPr>
              <a:t>Plusieurs portions sécré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9120" y="5468760"/>
            <a:ext cx="76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lande exocrine composé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plusieurs canaux + plusieurs P. sécrétr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105264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ff"/>
                </a:solidFill>
                <a:latin typeface="Comic Sans MS"/>
              </a:rPr>
              <a:t>En tenant compte du critère morphologique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ccff33"/>
                </a:solidFill>
                <a:latin typeface="Comic Sans MS"/>
              </a:rPr>
              <a:t>(forme du canal et forme de la portion sécrétrice),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800" spc="-1" strike="noStrike">
                <a:solidFill>
                  <a:srgbClr val="ffcc99"/>
                </a:solidFill>
                <a:latin typeface="Comic Sans MS"/>
              </a:rPr>
              <a:t>on peut définir plusieurs exemp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66760" y="210960"/>
            <a:ext cx="74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.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125360"/>
            <a:ext cx="74167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836640"/>
            <a:ext cx="0" cy="288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125360"/>
            <a:ext cx="0" cy="57492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50800" cy="1928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3933720"/>
            <a:ext cx="2108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Comic Sans MS"/>
              </a:rPr>
              <a:t>G. E. Tubule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Comic Sans MS"/>
              </a:rPr>
              <a:t>Sans canal excréteur (g. intestinal Lieberüh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971640" cy="180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908000" y="1125360"/>
            <a:ext cx="0" cy="6480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645000"/>
            <a:ext cx="0" cy="15843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5300640"/>
            <a:ext cx="17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G. E. T. 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Contour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(g. pylorique, esto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159372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08360" y="1125360"/>
            <a:ext cx="0" cy="6480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4076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Comic Sans MS"/>
              </a:rPr>
              <a:t>G. E. T. 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Comic Sans MS"/>
              </a:rPr>
              <a:t>Pelotonné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Comic Sans MS"/>
              </a:rPr>
              <a:t>(g. sudoripare, épide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645000"/>
            <a:ext cx="0" cy="21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645000"/>
            <a:ext cx="0" cy="360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1125360"/>
            <a:ext cx="0" cy="100836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932360" y="2205000"/>
            <a:ext cx="1392120" cy="1573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651640" y="3860640"/>
            <a:ext cx="0" cy="1584360"/>
          </a:xfrm>
          <a:prstGeom prst="line">
            <a:avLst/>
          </a:prstGeom>
          <a:ln w="284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4200" y="56847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Comic Sans MS"/>
              </a:rPr>
              <a:t>G. E. T. S. 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Comic Sans MS"/>
              </a:rPr>
              <a:t>(g. Brunner, duodénu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85080" y="1125360"/>
            <a:ext cx="0" cy="93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020000" y="2276640"/>
            <a:ext cx="1552680" cy="2219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812000" y="4653000"/>
            <a:ext cx="0" cy="36036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5084640"/>
            <a:ext cx="30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66ffff"/>
                </a:solidFill>
                <a:latin typeface="Comic Sans MS"/>
              </a:rPr>
              <a:t>G. E. T. 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Comic Sans MS"/>
              </a:rPr>
              <a:t>(g. muqueuse de la bou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7160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cc"/>
                </a:solidFill>
                <a:latin typeface="Comic Sans MS"/>
              </a:rPr>
              <a:t>Glandes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3280" y="134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1844640"/>
            <a:ext cx="6913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1844640"/>
            <a:ext cx="0" cy="936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278000" cy="112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5640" y="4076640"/>
            <a:ext cx="0" cy="647640"/>
          </a:xfrm>
          <a:prstGeom prst="line">
            <a:avLst/>
          </a:prstGeom>
          <a:ln w="284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7480" y="481968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G. E. A. S. (g. cutan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À poison, amphibi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780000" y="2781360"/>
            <a:ext cx="1292040" cy="1479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356000" y="1844640"/>
            <a:ext cx="0" cy="792360"/>
          </a:xfrm>
          <a:prstGeom prst="line">
            <a:avLst/>
          </a:prstGeom>
          <a:ln w="284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84560" y="460368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Comic Sans MS"/>
              </a:rPr>
              <a:t>G. E. Al. S. (g. sébacée, p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195640" cy="1795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740720" y="1844640"/>
            <a:ext cx="0" cy="720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4797360"/>
            <a:ext cx="0" cy="1079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6021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G. E. A. C. ( pancréas exocr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5000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Glandes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12536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1628640"/>
            <a:ext cx="5328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1628640"/>
            <a:ext cx="0" cy="648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200400" cy="3524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3000600" cy="362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236000" y="1628640"/>
            <a:ext cx="0" cy="432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602136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66"/>
                </a:solidFill>
                <a:latin typeface="Comic Sans MS"/>
              </a:rPr>
              <a:t>G. E. Tubulo-acineuse composée               (g. salivaire access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4360" y="59500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G. E. Tubulo-alvéolaire compo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(prostate, g. mamm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Nature du produit sécré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114280" cy="236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171520" cy="2390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4343400" cy="3057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16360" y="148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G. pyl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700280"/>
            <a:ext cx="107964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230040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Pancréas exoc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2492280"/>
            <a:ext cx="647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4027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G. Salivaire principale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95280" y="4221000"/>
            <a:ext cx="180036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landes = épithéliums sécréto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484280"/>
            <a:ext cx="47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la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2060640"/>
            <a:ext cx="0" cy="43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86920" y="2492280"/>
            <a:ext cx="59770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492280"/>
            <a:ext cx="0" cy="720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13000"/>
            <a:ext cx="21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. exo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2492280"/>
            <a:ext cx="0" cy="10810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35002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omic Sans MS"/>
              </a:rPr>
              <a:t>G. endo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2492280"/>
            <a:ext cx="0" cy="1728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4149720"/>
            <a:ext cx="30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G. amphi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645000"/>
            <a:ext cx="0" cy="1368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5013360"/>
            <a:ext cx="3888000" cy="58068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Produit de sécrétion rejeté à l’extérieur par 1 canal excré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877000"/>
            <a:ext cx="3816360" cy="642600"/>
          </a:xfrm>
          <a:prstGeom prst="rect">
            <a:avLst/>
          </a:prstGeom>
          <a:noFill/>
          <a:ln w="349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Produit de sécrétion (hormo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mic Sans MS"/>
              </a:rPr>
              <a:t>rejeté ds le 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4508640"/>
            <a:ext cx="0" cy="576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9480" y="5108400"/>
            <a:ext cx="3333600" cy="398880"/>
          </a:xfrm>
          <a:prstGeom prst="rect">
            <a:avLst/>
          </a:prstGeom>
          <a:noFill/>
          <a:ln w="507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G. Endocrine et ex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0"/>
            <a:ext cx="0" cy="6858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C. muqu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3556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Comic Sans MS"/>
              </a:rPr>
              <a:t>C. sér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177336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Taille de la cellul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565360"/>
            <a:ext cx="16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Noy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3372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33577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Aspect du cytoplas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79736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422100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Nature du produit sécré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508464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Lumière de l’aci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7480" y="590076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omic Sans MS"/>
              </a:rPr>
              <a:t>Exe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177336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1844640"/>
            <a:ext cx="23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47840" y="2494080"/>
            <a:ext cx="30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plati, ba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2565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rrondi, par-ba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19480" y="335772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64200" y="328608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Comic Sans MS"/>
              </a:rPr>
              <a:t>S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63840" y="42940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Grains de mu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4221000"/>
            <a:ext cx="34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Grains de zymogè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19480" y="5013360"/>
            <a:ext cx="29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64200" y="501336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Virt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6021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. pylorique, C. calic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75480" y="602136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ancréas ex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66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5280" y="620640"/>
            <a:ext cx="842472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omic Sans MS"/>
              </a:rPr>
              <a:t>R!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Il existe une glande séro-muqueuse, c’est le cas de la glande salivaire principale. La partie séreuse est représentée par le croissant de Gianuzzi, greffé sur l’acinus muqueux.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8360" y="5493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Comic Sans MS"/>
              </a:rPr>
              <a:t>Mode d’excré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3120" y="3357720"/>
            <a:ext cx="39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Modes d’excré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2421000"/>
            <a:ext cx="287280" cy="25700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6960 h 2570040"/>
              <a:gd name="textAreaBottom" fmla="*/ 2503080 h 257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2565360"/>
            <a:ext cx="3763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Mode mérocrine (épic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Mode ap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Comic Sans MS"/>
              </a:rPr>
              <a:t>Mode hol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3120" y="47772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ode épicrine (mér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800080" cy="3963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64200" y="1628640"/>
            <a:ext cx="26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1413000"/>
            <a:ext cx="4608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Le produit de sécrétion s’élimine soit par diffusion soit par exocyt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xp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d60093"/>
                </a:solidFill>
                <a:latin typeface="Comic Sans MS"/>
              </a:rPr>
              <a:t>: pancréas exoc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19120" y="477720"/>
            <a:ext cx="77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Mode ap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041640" cy="4295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59120" y="1773360"/>
            <a:ext cx="498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Le produit de sécrétion s’élimine en même temps que le pôle apical, ensuite la cellule rétablit son pôle apical et ses organites manqua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Exple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3399"/>
                </a:solidFill>
                <a:latin typeface="Comic Sans MS"/>
              </a:rPr>
              <a:t>: glande m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31840" y="477720"/>
            <a:ext cx="41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Comic Sans MS"/>
              </a:rPr>
              <a:t>Mode hol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002040" cy="4295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479840" y="1773360"/>
            <a:ext cx="412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Comic Sans MS"/>
              </a:rPr>
              <a:t>La cellule s’élimine en même temps que son produit de sécré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xp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66cc"/>
                </a:solidFill>
                <a:latin typeface="Comic Sans MS"/>
              </a:rPr>
              <a:t>: glande sébacé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3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89000"/>
            <a:ext cx="85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Origines embryonn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132000" y="907920"/>
            <a:ext cx="1860840" cy="82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67280" y="1844640"/>
            <a:ext cx="0" cy="28728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987640" y="2205000"/>
            <a:ext cx="2220840" cy="180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4787640" y="1197000"/>
            <a:ext cx="1439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98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Épithélium de revêtem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4076640"/>
            <a:ext cx="0" cy="3603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1280" y="4508640"/>
            <a:ext cx="3283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3282840" cy="21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340000" y="3429000"/>
            <a:ext cx="4305240" cy="3238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270828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6200" y="932040"/>
            <a:ext cx="815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Comic Sans MS"/>
              </a:rPr>
              <a:t>Cl !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Si le bourgeon se détache de l’épithélium d’origine : formation d’1 glande endoc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 le bourgeon demeure rattaché à l’épithélium d’origine : formation d’1 glande exocrine.</a:t>
            </a:r>
            <a:r>
              <a:rPr b="1" i="1" lang="en-US" sz="36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19120" y="50004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Comic Sans MS"/>
              </a:rPr>
              <a:t>Glandes exocri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2660760"/>
            <a:ext cx="85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Comic Sans MS"/>
              </a:rPr>
              <a:t>Attention : la chose la plus importante est la 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51120" y="68400"/>
            <a:ext cx="34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Comic Sans MS"/>
              </a:rPr>
              <a:t>G. exoc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476280"/>
            <a:ext cx="0" cy="6490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549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bre de cellu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e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itère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125360"/>
            <a:ext cx="62658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125360"/>
            <a:ext cx="0" cy="574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773360"/>
            <a:ext cx="34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G. unicell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08720" y="1125360"/>
            <a:ext cx="0" cy="7192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8446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omic Sans MS"/>
              </a:rPr>
              <a:t>G. pluricellul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20500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637000"/>
            <a:ext cx="35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Comic Sans MS"/>
              </a:rPr>
              <a:t>C. calic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6000" y="2924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Topograph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(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Comic Sans MS"/>
              </a:rPr>
              <a:t>ème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critè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2276640"/>
            <a:ext cx="0" cy="143964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3716280"/>
            <a:ext cx="3527640" cy="0"/>
          </a:xfrm>
          <a:prstGeom prst="line">
            <a:avLst/>
          </a:prstGeom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3741840"/>
            <a:ext cx="0" cy="43164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4205160"/>
            <a:ext cx="3887640" cy="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4221000"/>
            <a:ext cx="0" cy="43344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4197240"/>
            <a:ext cx="0" cy="28908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581360"/>
            <a:ext cx="34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Comic Sans MS"/>
              </a:rPr>
              <a:t>G.  Mineures (de surfac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450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G. Majeures (enfouies ds le T. C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2011320" cy="129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40000" y="4941720"/>
            <a:ext cx="0" cy="142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084640"/>
            <a:ext cx="5688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084640"/>
            <a:ext cx="0" cy="216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5300640"/>
            <a:ext cx="414036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G. en feuillet (épith. Gastr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508464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300640"/>
            <a:ext cx="4340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</a:rPr>
              <a:t>G. intra-épithélia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(G. de Littr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12000" y="5805360"/>
            <a:ext cx="1622160" cy="105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32000" y="5734080"/>
            <a:ext cx="1700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7840" y="57168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Classification des glandes exocrines maje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28464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. E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357336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3068640"/>
            <a:ext cx="19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mic Sans MS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349360"/>
            <a:ext cx="430200" cy="2808360"/>
          </a:xfrm>
          <a:custGeom>
            <a:avLst/>
            <a:gdLst>
              <a:gd name="textAreaLeft" fmla="*/ 275040 w 430200"/>
              <a:gd name="textAreaRight" fmla="*/ 430560 w 4302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35480" y="2300400"/>
            <a:ext cx="44845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Comic Sans MS"/>
              </a:rPr>
              <a:t>Morphologie de la g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Comic Sans MS"/>
              </a:rPr>
              <a:t>Nature du produit sécr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Mode d’excré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7840" y="571680"/>
            <a:ext cx="81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orphologie de la gl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3796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ph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la gl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789360"/>
            <a:ext cx="1943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2781360"/>
            <a:ext cx="431640" cy="1993680"/>
          </a:xfrm>
          <a:custGeom>
            <a:avLst/>
            <a:gdLst>
              <a:gd name="textAreaLeft" fmla="*/ 275760 w 431640"/>
              <a:gd name="textAreaRight" fmla="*/ 432000 w 431640"/>
              <a:gd name="textAreaTop" fmla="*/ 51840 h 1993680"/>
              <a:gd name="textAreaBottom" fmla="*/ 1941840 h 199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0200" y="2803680"/>
            <a:ext cx="3979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Comic Sans MS"/>
              </a:rPr>
              <a:t>Morphologie du canal excré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phologie de la portion sécré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28464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S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26:23Z</dcterms:created>
  <dc:creator>bouaziz</dc:creator>
  <dc:description/>
  <dc:language>en-US</dc:language>
  <cp:lastModifiedBy> </cp:lastModifiedBy>
  <dcterms:modified xsi:type="dcterms:W3CDTF">2006-02-19T12:07:28Z</dcterms:modified>
  <cp:revision>35</cp:revision>
  <dc:subject/>
  <dc:title>Diapositive 1</dc:title>
</cp:coreProperties>
</file>