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42E-865D-4FD1-AC21-32CB9CD5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A2B-6F45-46A9-8E05-A3BC8DA6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6A7-78FE-4A0A-A588-98EF960F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DA2-CBBA-4641-B65E-E1928ACB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0546-8702-4A52-8F46-7B3E52F3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F0E8-2862-406B-AA64-0A449CF2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3CEF-25D1-4820-82D1-8D6B1C6B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CDA5-484B-4099-B5E6-7C9ED4F1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6A7E-1D86-40EB-9277-B7DE748E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8EC5-762A-400E-A9BC-B80FB5EE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D05A-C427-4DCE-AF3D-0EB68A4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A8D-781C-4E70-A014-5DFF8665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6898-5ADA-4AC3-AA00-7D41454B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CFD1-95A6-443B-9B93-2840888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4E4A-6FA3-4A04-A3E2-1D3B242B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3E40-7E5A-420D-9813-5F31CE51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1C18-F592-492E-8D83-0BFD534C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3FD-516A-44CC-9A43-2343EB21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421-88E6-449B-846C-43B1B557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B2C-7AF0-4CC9-8E01-ABD26942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F4E-C082-476C-91C4-EFBBAD47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EC9-7552-4F78-8E97-90E9D27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6C5-005C-4D5F-AE1D-1A82C3CE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491-0F6D-4600-89CA-615C48C1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B0D0-40D0-4C35-8FFE-B4854EA196E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463C-89C3-4818-93CA-91CBC8FFC8D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351640" cy="2116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leh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aufiq R Nasihu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gala masalah yang mungkin dapat difikirkan oleh manus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suai dng fungsinya ia memikirkan hal-hal yg pokok: terjawab satu masalah ia akan pindah ke masalah yang l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iap kurun waktu mempunyai masalah yang merpk mode pada waktu itu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iapakah manusia itu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ontoh Ilmu Ekonomi dan Manajem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Ekonomi: menelaah hubungan manusia dengan barang/jasa yang dapat memenuhi kebutuhan hidupny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anajemen: menelaah kerjasama antar sesama manusia dalam mencapai tujuan yang telah disepakati (Homo economicus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entang hidup dan eksistensi manus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sebenarnya hidup itu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kah hidup itu gambling seperti melempar dadu secara acak? (Bila asumsi Tuhan itu adil maka penciptaan itu harus diacak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kah nasib itu umpan balik pilihan probabilisti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ahasa (termasuk matematik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Orang akan mendengarkan pendapat bila dikemukakan lewat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Cara/proses/prosedur ilmiah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da 3 segi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benar/salah itu? (logik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na baik/buruk? (etik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na indah/jelek? (estetik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Tentang ada (metafisik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Politik (organisasi sosial/pemerintahan yang idea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Epistemologi (filsafat pengetahuan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Etika (filsafat moral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Estetika (filsafat seni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Metafisik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Politik (filsafat pemerintahan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lsafat Agam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Filsafat Ilm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lsafat Huk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lsafat Pendidika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lsafat Sejarah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Filsafat matematik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rpk bagian dari epistemologi yang secara spesifik mengkaji hakekat ilmu (pengetahuan ilmiah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lmu mempunyai ciri-ciri tertent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idak ada perbedaan yang prinsip antara ilmu alam dan ilmu sosial, keduanya mempunyai ciri keilmuan yang sam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225360" y="401760"/>
            <a:ext cx="8674200" cy="2566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30942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byek apa yang ditelaah (Ontologi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agaimana proses memperoleh ilmu (Epistemologi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Untuk apa ilmu itu dipergunakan? (Aksiologi/Teleologi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lmu mrpk pengetahuan yang aspek OEA lebih berkembang dibanding pengetahuan lai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91520" cy="1152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Untuk membedakan jenis pengetahuan satu dari yang lain melalui pertanyaa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yang dikaji pengetahuan itu (ontologi)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agaimana cara mendapatkan pengetahuan tersebut (epistemologi)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Untuk apa ilmu pengetahuan itu dipergunakan (aksiologi)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anusia mampu mengembangkan pengetahuan karena dua alasa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ahasa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ampu mengkomunikasikan ide dan latar belakang ide tersebut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alar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Kemampuan berfikir menurut alur kerangka berfikir tertentu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066320" y="2361960"/>
            <a:ext cx="7162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rang yang tahu di tahuny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rang yang tahu di tidak tahuny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rang yang tidak tahu di tahuny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rang yang tidak tahu di tidak tahuny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Penalaran merupakan suatu proses berfikir dalam menarik kesimpulan yang berupa pengetahua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Proses berfikir harus dilakukan dng cara tertent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Ciri-ciri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Logika (logis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Analitik (proses berfikir yang menyandarkan diri pada analisis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alisis: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Cara memeriksa suatu masalah, untuk menemukan semua unsur dasar dan hubungan antara unsur-unsur yang bersangkuta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091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6840" y="160020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tuisi  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Wahy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Keduanya dapat merupakan sumber pengetahuan yang benar (berdasar keyakina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Right Brace 3"/>
          <p:cNvSpPr/>
          <p:nvPr/>
        </p:nvSpPr>
        <p:spPr>
          <a:xfrm>
            <a:off x="2209680" y="1752480"/>
            <a:ext cx="157320" cy="914400"/>
          </a:xfrm>
          <a:custGeom>
            <a:avLst/>
            <a:gdLst>
              <a:gd name="textAreaLeft" fmla="*/ 0 w 157320"/>
              <a:gd name="textAreaRight" fmla="*/ 56880 w 1573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2590920" y="19051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idak mempunyai logika dan pola berfikir terte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Harus diisi dengan materi pengetahuan yang berasal dari sumber kebenara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sio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Rasionalis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akt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Empiris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enalaran Ilmiah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duktif &gt;&lt; rasionalis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duktif &gt;&lt; empiris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ara penarikan kesimpulan disebut LOGIK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Definisi logika: Pengkajian untuk berfikir secara sahi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gar sahih harus didasrkan pada logika induktif dan deduktif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duktif: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ara berfikir dimana ditarik suatu kesimpulan yang bersifat umum dari kasus-kasus yang bersifat individu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ontoh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Batu duktus kholedokhus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 iketru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Batu intra hepatik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 ikteru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Ca caput pankreas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 ikteru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Kesimpulan: Hambatan sekresi empedu berakibat ikteru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Semua binatang mempunyai mata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Semua manusia mempunyai mata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Rounded MT Bold"/>
              </a:rPr>
              <a:t>Kesimpulan semua makhluk mempunyai mata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ara berfikir di mana dari pernyataan yang bersifat umum ditarik kesimpulan ke yang bersifat khusu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Biasanya mempergunakan pola berfikir yang disebut silogis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Silogisme disusun berdasar pada premi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Ada dua premis yaitu premis mayor dan minor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Kesimpulan diambil berdasar pada kedua premis tersebu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ontoh: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Hambatan sekresi empedu mengakibatkan ikterus (P.mayor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Ca caput pankreas dapat menghambat sekresi empedu (P.minor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Ca caput pankreas dapat mengakibatkan iketrus (kesimpulan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Semua makhluk mempunyai mata (P.Mayor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Joni seorang makhluk (P.minor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Joni mempunyai mata (kesimpulan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Kesimpulan akan benar bila premisnya benar dan kesimpulan ditarik dengan logika yang bena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gala sesuatu dalam hidup dimulai dengan meragukan sesuat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gukan bahwa bintang-bintang itu ap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gukan bahwa matahari itu bergera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gukan bahwa kebenaran itu dus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api jangan ragukan cintak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umber kebenar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sio – Koherensi-subyektif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mpiri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tuisi (dpt digunakan sebagai hipotesi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ahyu (dpt digunakan sebagai hipotesi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nak menganggap guru bohong karena mengatakan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3 + 5 = 8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2 + 6 = 8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1 + 7 = 8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ni semua tidak bena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pa kriteria benar? (tidak semua manusia mempunyai kriteria benar yang sama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Kita menganggap benar karena secara deduktif bisa disebut benar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Kenapa disebut benar karena pernyataan dan kesimpulan konsisten atau koheren dengan pernyataan dan kesimpulan terdahulu yang telah dianggap benar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Disebut teori koherensi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Contoh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Semua manusia akan mati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Paimin adalah manusia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Paimin pasti akan mati (ini pasti benar karena konsisten dengan pernyataan sebelumnya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isebut benar apabila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teri pengetahuan yang dikandung oleh pernyataan itu berkorespondensi (berhubungan dengan obyek yang dituju oleh pernyataan tsb. (kenyataa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rnyataan adalah benar bila terdapat fakta empiris yang mendukung fakta erseb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ntoh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bukota RI adalah Jakarta (pernyataan ini benar karena kenyataannya begitu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Rounded MT Bold"/>
              </a:rPr>
              <a:t>Teori Pragmatis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isebut benar apabi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ernyataan itu mempunyai kegunaan praktis dalam kehidupan manu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ibatasi oleh waktu (skrg benar belum tentu untuk 10 th yg akan data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jauh masih berfungsi maka itu dianggap be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Ilmu merupakan pengetahuan yang didapatkan lewat metode ilmia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etode ilmiah mengandung logika berfikir deduktif dan induktif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Gabungan kedua logika tersebut disebut berfikir secara reflektif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Proses berfikir berangkat dari masalah nyata, maka ilmu adalah mencari jawaban terhadap permasalahan tsb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Ilmu dimulai dari fakta diakhiri dengan fakta apapun teori yang menjembatani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Teori: merupakan penjelasan mengenai gejala yang terdapat pada dunia fisik, merupakan abstraksi intelektual dimana pendekatan secara rasional digabungkan dengan pengalaman empirik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Ketahuilah apa yang kau tahu dan ketahuilah apa yang kau tidak tahu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609480" y="32004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ngetahuan dimulai dari rasa ingin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ahu, kepastian dimulai dari rasa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agu-ragu, dan filsafat dimulai da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eduany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Kerangka berfikir ilmiah berintikan proses LOGIKO HIPOTETIKO VERIVIKATIF yang pada dasarnya terdiri dari langkah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mulai dari masala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yusunan kerangka berfikir untuk membuat hipotesis (sebagai penunjuk jalan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rumusan hipote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gujian hipote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engkonfrontasikan dengan dunia fisik/fakta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Untuk itu perlu dikumpulkan fakta yg relevan dengan hipotesis yang diajuk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arikan kesimpul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perti orang yang berpijak di bumi dan sedang tengadah ke bintang-bintang di lang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a ingin mengetahui hakekat dirinya dalam kesemestaan galaks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perti orang yang berdiri di puncak gunung yang tinggi, sedang memandang ke ngarai dan lembah di bawahny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a ingin menyimak kehadirannya dengan kesemestaan yang ditatapny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enyeluru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elihat hakekat ilmu dalam konstelasi pengetahuan yang lainny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Kaitan antara ilmu dengan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oral (memandang rendah pada ilmu lain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Agama (memandang rendah agama dan etika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kebahagia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endas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idak gampang percaya bahwa ilmu itu bena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engapa disebut benar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Bagaimana proses penilaian berdasar kriteria tsb dilakukan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Apakah kriteria itu benar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Benar itu apa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pekulati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ukankah spekulasi itu suatu dasar yang tidak bisa diadakan?- memang benar tapi tak bisa dihindark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enyusur sebuah lingkaran harus mulai dari sebuah titik meskipun sangat spekulatif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Yang penting dlm analisis dan pembuktian kita bisa memisahkan spekulasi mana yang bisa diandalkan dan mana yang tidak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enetapkan dasar-dasar yang bisa diandalk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yang disebut logis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yang disebut benar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pa yang disebut sahih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57200" y="3962520"/>
            <a:ext cx="7620120" cy="192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ekarang kita sadar bahwa semua pengetahuan yang sekarang ada dimulai dengan spekulas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ana yang dapat diandalkan dan merupakan titik awal dari penjelajahan pengetahu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anpa menetapkan apa yang disebut benar dan baik tentu pengetahuan lain tidak bisa berkemb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ebagai pionir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perti pasukan marinir yang merebut pantai untuk pendaratan pasukan infantr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fantri (pengetahuan/ilmu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mua ilmu bertolak dari filsaf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Philosophiae Naturalis Principia Mathematica (Issac Newton, 1686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Natural Philosophy – nama fisika dulu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oral Philosophy – nama ekonomi dulu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21:10:51Z</dcterms:created>
  <dc:creator>user</dc:creator>
  <dc:description/>
  <dc:language>en-US</dc:language>
  <cp:lastModifiedBy>user</cp:lastModifiedBy>
  <dcterms:modified xsi:type="dcterms:W3CDTF">2007-09-27T06:25:15Z</dcterms:modified>
  <cp:revision>27</cp:revision>
  <dc:subject/>
  <dc:title>Filsafat Ilmu</dc:title>
</cp:coreProperties>
</file>