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23BD3-9860-4873-8241-43738D5D9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A1E56-092B-4CF1-8375-75DF9F01F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4EA5C-5975-489F-B5AA-62AEA2431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2F7BD-3D99-463C-9CB6-602DF15F7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0DE83-85FE-42B6-89F0-BF85EFDE5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E1564-46BB-479B-9B34-27272BC23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8C99C-20AD-451A-9F42-FA1ED6901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77D0C-3905-4E2E-BBCD-853E7808B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892DB-41C6-494A-9F3D-2AC303998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472A0-07E1-4E15-AF21-47957ADF7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41980-0E77-4461-AFB4-82318CBD8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AF028-0E8B-4406-9223-7BC27BE40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B51E3-BFE1-4C00-9F41-89E360292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3924D-BA92-404C-AB1D-52DFA21FD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D6D90-39F6-4195-B55E-596D04B25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B7342-52A6-4807-8834-8A594205E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F0D2C-5566-4026-8F0D-D903B011D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E3E0C-04EB-4E7C-98E6-84D470D0D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D374D-C6F8-40F8-8A36-E3020CC9C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BE614-83E7-406F-B9B1-E0915E8BF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105D7-5CF8-400E-B378-1DD3F82C0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0FEFC-70CB-426E-9272-C32174A6F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989EC-FBE1-4262-9918-4FF528E48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612F6-C36C-4564-B071-395E33550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DD682-FFE1-467E-A60C-826E21752D8E}" type="slidenum">
              <a:rPr b="0" lang="en-US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7CA79-C1BB-4FCD-B2DF-47AFF5673E89}" type="slidenum">
              <a:rPr b="0" lang="en-US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Title 1" descr=""/>
          <p:cNvPicPr/>
          <p:nvPr/>
        </p:nvPicPr>
        <p:blipFill>
          <a:blip r:embed="rId1"/>
          <a:stretch/>
        </p:blipFill>
        <p:spPr>
          <a:xfrm>
            <a:off x="414360" y="1365120"/>
            <a:ext cx="8351640" cy="211644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371600" y="33321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Rounded MT Bold"/>
              </a:rPr>
              <a:t>Oleh: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Rounded MT Bold"/>
              </a:rPr>
              <a:t>Taufiq R Nasihun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Rounded MT Bold"/>
              </a:rPr>
              <a:t>Segala masalah yang mungkin dapat difikirkan oleh manusia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Rounded MT Bold"/>
              </a:rPr>
              <a:t>Sesuai dng fungsinya ia memikirkan hal-hal yg pokok: terjawab satu masalah ia akan pindah ke masalah yang lain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Tiap kurun waktu mempunyai masalah yang merpk mode pada waktu itu.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Rounded MT Bold"/>
              </a:rPr>
              <a:t>Siapakah manusia itu?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Contoh Ilmu Ekonomi dan Manajemen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Rounded MT Bold"/>
              </a:rPr>
              <a:t>Ekonomi: menelaah hubungan manusia dengan barang/jasa yang dapat memenuhi kebutuhan hidupnya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Rounded MT Bold"/>
              </a:rPr>
              <a:t>Manajemen: menelaah kerjasama antar sesama manusia dalam mencapai tujuan yang telah disepakati (Homo economicus)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Rounded MT Bold"/>
              </a:rPr>
              <a:t>Tentang hidup dan eksistensi manusia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Apa sebenarnya hidup itu?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Apakah hidup itu gambling seperti melempar dadu secara acak? (Bila asumsi Tuhan itu adil maka penciptaan itu harus diacak)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Apakah nasib itu umpan balik pilihan probabilistik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Rounded MT Bold"/>
              </a:rPr>
              <a:t>Bahasa (termasuk matematika)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Orang akan mendengarkan pendapat bila dikemukakan lewat: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Rounded MT Bold"/>
              </a:rPr>
              <a:t>Cara/proses/prosedur ilmiah 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Rounded MT Bold"/>
              </a:rPr>
              <a:t>Ada 3 segi: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Apa benar/salah itu? (logika)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Mana baik/buruk? (etika)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Mana indah/jelek? (estetika)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Rounded MT Bold"/>
              </a:rPr>
              <a:t>Tentang ada (metafisika)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Rounded MT Bold"/>
              </a:rPr>
              <a:t>Politik (organisasi sosial/pemerintahan yang ideal)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lnSpc>
                <a:spcPct val="8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 Rounded MT Bold"/>
              </a:rPr>
              <a:t>Epistemologi (filsafat pengetahuan)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14440" indent="-514440">
              <a:lnSpc>
                <a:spcPct val="8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 Rounded MT Bold"/>
              </a:rPr>
              <a:t>Etika (filsafat moral)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14440" indent="-514440">
              <a:lnSpc>
                <a:spcPct val="8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 Rounded MT Bold"/>
              </a:rPr>
              <a:t>Estetika (filsafat seni)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14440" indent="-514440">
              <a:lnSpc>
                <a:spcPct val="8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 Rounded MT Bold"/>
              </a:rPr>
              <a:t>Metafisika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14440" indent="-514440">
              <a:lnSpc>
                <a:spcPct val="8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 Rounded MT Bold"/>
              </a:rPr>
              <a:t>Politik (filsafat pemerintahan)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14440" indent="-514440">
              <a:lnSpc>
                <a:spcPct val="8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 Rounded MT Bold"/>
              </a:rPr>
              <a:t>Filsafat Agama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14440" indent="-514440">
              <a:lnSpc>
                <a:spcPct val="8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 Rounded MT Bold"/>
              </a:rPr>
              <a:t>Filsafat Ilmu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14440" indent="-514440">
              <a:lnSpc>
                <a:spcPct val="8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 Rounded MT Bold"/>
              </a:rPr>
              <a:t>Filsafat Hukum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14440" indent="-514440">
              <a:lnSpc>
                <a:spcPct val="8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 Rounded MT Bold"/>
              </a:rPr>
              <a:t>Filsafat Pendidikan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14440" indent="-514440">
              <a:lnSpc>
                <a:spcPct val="8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 Rounded MT Bold"/>
              </a:rPr>
              <a:t>Filsafat Sejarah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14440" indent="-514440">
              <a:lnSpc>
                <a:spcPct val="8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 Rounded MT Bold"/>
              </a:rPr>
              <a:t>Filsafat matematika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14440" indent="-51444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Rounded MT Bold"/>
              </a:rPr>
              <a:t>Mrpk bagian dari epistemologi yang secara spesifik mengkaji hakekat ilmu (pengetahuan ilmiah)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Rounded MT Bold"/>
              </a:rPr>
              <a:t>Ilmu mempunyai ciri-ciri tertentu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Rounded MT Bold"/>
              </a:rPr>
              <a:t>Tidak ada perbedaan yang prinsip antara ilmu alam dan ilmu sosial, keduanya mempunyai ciri keilmuan yang sama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Title 1" descr=""/>
          <p:cNvPicPr/>
          <p:nvPr/>
        </p:nvPicPr>
        <p:blipFill>
          <a:blip r:embed="rId1"/>
          <a:stretch/>
        </p:blipFill>
        <p:spPr>
          <a:xfrm>
            <a:off x="225360" y="401760"/>
            <a:ext cx="8674200" cy="256680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 txBox="1"/>
          <p:nvPr/>
        </p:nvSpPr>
        <p:spPr>
          <a:xfrm>
            <a:off x="457200" y="3094200"/>
            <a:ext cx="8229600" cy="34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Rounded MT Bold"/>
              </a:rPr>
              <a:t>Obyek apa yang ditelaah (Ontologi)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Rounded MT Bold"/>
              </a:rPr>
              <a:t>Bagaimana proses memperoleh ilmu (Epistemologi)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Rounded MT Bold"/>
              </a:rPr>
              <a:t>Untuk apa ilmu itu dipergunakan? (Aksiologi/Teleologi)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Ilmu mrpk pengetahuan yang aspek OEA lebih berkembang dibanding pengetahuan lain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Title 1" descr=""/>
          <p:cNvPicPr/>
          <p:nvPr/>
        </p:nvPicPr>
        <p:blipFill>
          <a:blip r:embed="rId1"/>
          <a:stretch/>
        </p:blipFill>
        <p:spPr>
          <a:xfrm>
            <a:off x="450720" y="530280"/>
            <a:ext cx="8291520" cy="115236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 txBox="1"/>
          <p:nvPr/>
        </p:nvSpPr>
        <p:spPr>
          <a:xfrm>
            <a:off x="457200" y="2027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Rounded MT Bold"/>
              </a:rPr>
              <a:t>Untuk membedakan jenis pengetahuan satu dari yang lain melalui pertanyaan: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Apa yang dikaji pengetahuan itu (ontologi)?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Bagaimana cara mendapatkan pengetahuan tersebut (epistemologi)?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Untuk apa ilmu pengetahuan itu dipergunakan (aksiologi)?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Rounded MT Bold"/>
              </a:rPr>
              <a:t>Manusia mampu mengembangkan pengetahuan karena dua alasan: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Bahasa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Rounded MT Bold"/>
              </a:rPr>
              <a:t>Mampu mengkomunikasikan ide dan latar belakang ide tersebut 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Penalaran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Rounded MT Bold"/>
              </a:rPr>
              <a:t>Kemampuan berfikir menurut alur kerangka berfikir tertentu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Title 1" descr=""/>
          <p:cNvPicPr/>
          <p:nvPr/>
        </p:nvPicPr>
        <p:blipFill>
          <a:blip r:embed="rId1"/>
          <a:stretch/>
        </p:blipFill>
        <p:spPr>
          <a:xfrm>
            <a:off x="450720" y="103320"/>
            <a:ext cx="8242560" cy="143964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1066320" y="2361960"/>
            <a:ext cx="7162920" cy="33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Rounded MT Bold"/>
              </a:rPr>
              <a:t>Orang yang tahu di tahunya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Rounded MT Bold"/>
              </a:rPr>
              <a:t>Orang yang tahu di tidak tahunya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Rounded MT Bold"/>
              </a:rPr>
              <a:t>Orang yang tidak tahu di tahunya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Rounded MT Bold"/>
              </a:rPr>
              <a:t>Orang yang tidak tahu di tidak tahunya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lnSpc>
                <a:spcPct val="9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 Rounded MT Bold"/>
              </a:rPr>
              <a:t>Penalaran merupakan suatu proses berfikir dalam menarik kesimpulan yang berupa pengetahuan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 Rounded MT Bold"/>
              </a:rPr>
              <a:t>Proses berfikir harus dilakukan dng cara tertentu.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 Rounded MT Bold"/>
              </a:rPr>
              <a:t>Ciri-ciri: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Rounded MT Bold"/>
              </a:rPr>
              <a:t>Logika (logis)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Rounded MT Bold"/>
              </a:rPr>
              <a:t>Analitik (proses berfikir yang menyandarkan diri pada analisis)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Rounded MT Bold"/>
              </a:rPr>
              <a:t>Analisis: 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lnSpc>
                <a:spcPct val="9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 Rounded MT Bold"/>
              </a:rPr>
              <a:t>Cara memeriksa suatu masalah, untuk menemukan semua unsur dasar dan hubungan antara unsur-unsur yang bersangkutan</a:t>
            </a:r>
            <a:endParaRPr b="0" lang="en-US" sz="19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309160" cy="115884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 txBox="1"/>
          <p:nvPr/>
        </p:nvSpPr>
        <p:spPr>
          <a:xfrm>
            <a:off x="456840" y="1600200"/>
            <a:ext cx="8296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Rounded MT Bold"/>
              </a:rPr>
              <a:t>Intuisi       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Rounded MT Bold"/>
              </a:rPr>
              <a:t>Wahyu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Keduanya dapat merupakan sumber pengetahuan yang benar (berdasar keyakinan)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6" name="Right Brace 3"/>
          <p:cNvSpPr/>
          <p:nvPr/>
        </p:nvSpPr>
        <p:spPr>
          <a:xfrm>
            <a:off x="2209680" y="1752480"/>
            <a:ext cx="157320" cy="914400"/>
          </a:xfrm>
          <a:custGeom>
            <a:avLst/>
            <a:gdLst>
              <a:gd name="textAreaLeft" fmla="*/ 0 w 157320"/>
              <a:gd name="textAreaRight" fmla="*/ 56880 w 157320"/>
              <a:gd name="textAreaTop" fmla="*/ 3960 h 914400"/>
              <a:gd name="textAreaBottom" fmla="*/ 9104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55"/>
                  <a:pt x="10800" y="309"/>
                </a:cubicBezTo>
                <a:lnTo>
                  <a:pt x="10800" y="10491"/>
                </a:lnTo>
                <a:cubicBezTo>
                  <a:pt x="10800" y="10646"/>
                  <a:pt x="16200" y="10800"/>
                  <a:pt x="21600" y="10800"/>
                </a:cubicBezTo>
                <a:cubicBezTo>
                  <a:pt x="16200" y="10800"/>
                  <a:pt x="10800" y="10955"/>
                  <a:pt x="10800" y="11109"/>
                </a:cubicBezTo>
                <a:lnTo>
                  <a:pt x="10800" y="21291"/>
                </a:lnTo>
                <a:cubicBezTo>
                  <a:pt x="10800" y="21446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Box 5"/>
          <p:cNvSpPr/>
          <p:nvPr/>
        </p:nvSpPr>
        <p:spPr>
          <a:xfrm>
            <a:off x="2590920" y="1905120"/>
            <a:ext cx="556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Rounded MT Bold"/>
              </a:rPr>
              <a:t>Tidak mempunyai logika dan pola berfikir tertentu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Rounded MT Bold"/>
              </a:rPr>
              <a:t>Harus diisi dengan materi pengetahuan yang berasal dari sumber kebenaran: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Rasio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 Rasionalisme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Fakta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 Empirisme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Rounded MT Bold"/>
              </a:rPr>
              <a:t>Penalaran Ilmiah: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Deduktif &gt;&lt; rasionalisme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Induktif &gt;&lt; empirisme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lnSpc>
                <a:spcPct val="8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Cara penarikan kesimpulan disebut LOGIKA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Rounded MT Bold"/>
              </a:rPr>
              <a:t>Definisi logika: Pengkajian untuk berfikir secara sahih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Rounded MT Bold"/>
              </a:rPr>
              <a:t>Agar sahih harus didasrkan pada logika induktif dan deduktif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Induktif: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Rounded MT Bold"/>
              </a:rPr>
              <a:t>Cara berfikir dimana ditarik suatu kesimpulan yang bersifat umum dari kasus-kasus yang bersifat individual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Rounded MT Bold"/>
              </a:rPr>
              <a:t>Contoh: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 Rounded MT Bold"/>
              </a:rPr>
              <a:t>Batu duktus kholedokhus </a:t>
            </a:r>
            <a:r>
              <a:rPr b="0" lang="en-US" sz="19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900" spc="-1" strike="noStrike">
                <a:solidFill>
                  <a:srgbClr val="ffffff"/>
                </a:solidFill>
                <a:latin typeface="Arial Rounded MT Bold"/>
              </a:rPr>
              <a:t> iketrus</a:t>
            </a:r>
            <a:endParaRPr b="0" lang="en-US" sz="19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 Rounded MT Bold"/>
              </a:rPr>
              <a:t>Batu intra hepatik </a:t>
            </a:r>
            <a:r>
              <a:rPr b="0" lang="en-US" sz="19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900" spc="-1" strike="noStrike">
                <a:solidFill>
                  <a:srgbClr val="ffffff"/>
                </a:solidFill>
                <a:latin typeface="Arial Rounded MT Bold"/>
              </a:rPr>
              <a:t> ikterus</a:t>
            </a:r>
            <a:endParaRPr b="0" lang="en-US" sz="19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 Rounded MT Bold"/>
              </a:rPr>
              <a:t>Ca caput pankreas </a:t>
            </a:r>
            <a:r>
              <a:rPr b="0" lang="en-US" sz="19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900" spc="-1" strike="noStrike">
                <a:solidFill>
                  <a:srgbClr val="ffffff"/>
                </a:solidFill>
                <a:latin typeface="Arial Rounded MT Bold"/>
              </a:rPr>
              <a:t> ikterus</a:t>
            </a:r>
            <a:endParaRPr b="0" lang="en-US" sz="19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 Rounded MT Bold"/>
              </a:rPr>
              <a:t>Kesimpulan: Hambatan sekresi empedu berakibat ikterus</a:t>
            </a:r>
            <a:endParaRPr b="0" lang="en-US" sz="19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 Rounded MT Bold"/>
              </a:rPr>
              <a:t>Semua binatang mempunyai mata</a:t>
            </a:r>
            <a:endParaRPr b="0" lang="en-US" sz="19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 Rounded MT Bold"/>
              </a:rPr>
              <a:t>Semua manusia mempunyai mata</a:t>
            </a:r>
            <a:endParaRPr b="0" lang="en-US" sz="19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 Rounded MT Bold"/>
              </a:rPr>
              <a:t>Kesimpulan semua makhluk mempunyai mata</a:t>
            </a:r>
            <a:endParaRPr b="0" lang="en-US" sz="19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Title 1" descr=""/>
          <p:cNvPicPr/>
          <p:nvPr/>
        </p:nvPicPr>
        <p:blipFill>
          <a:blip r:embed="rId1"/>
          <a:stretch/>
        </p:blipFill>
        <p:spPr>
          <a:xfrm>
            <a:off x="189000" y="268200"/>
            <a:ext cx="8504280" cy="115884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lnSpc>
                <a:spcPct val="8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Rounded MT Bold"/>
              </a:rPr>
              <a:t>Cara berfikir di mana dari pernyataan yang bersifat umum ditarik kesimpulan ke yang bersifat khusus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Rounded MT Bold"/>
              </a:rPr>
              <a:t>Biasanya mempergunakan pola berfikir yang disebut silogisme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lnSpc>
                <a:spcPct val="80000"/>
              </a:lnSpc>
              <a:spcBef>
                <a:spcPts val="425"/>
              </a:spcBef>
              <a:buClr>
                <a:srgbClr val="ffffff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Rounded MT Bold"/>
              </a:rPr>
              <a:t>Silogisme disusun berdasar pada premis</a:t>
            </a:r>
            <a:endParaRPr b="0" lang="en-US" sz="17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lnSpc>
                <a:spcPct val="80000"/>
              </a:lnSpc>
              <a:spcBef>
                <a:spcPts val="425"/>
              </a:spcBef>
              <a:buClr>
                <a:srgbClr val="ffffff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Rounded MT Bold"/>
              </a:rPr>
              <a:t>Ada dua premis yaitu premis mayor dan minor</a:t>
            </a:r>
            <a:endParaRPr b="0" lang="en-US" sz="17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Rounded MT Bold"/>
              </a:rPr>
              <a:t>Kesimpulan diambil berdasar pada kedua premis tersebut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Rounded MT Bold"/>
              </a:rPr>
              <a:t>Contoh: 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lnSpc>
                <a:spcPct val="80000"/>
              </a:lnSpc>
              <a:spcBef>
                <a:spcPts val="425"/>
              </a:spcBef>
              <a:buClr>
                <a:srgbClr val="ffffff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Rounded MT Bold"/>
              </a:rPr>
              <a:t>Hambatan sekresi empedu mengakibatkan ikterus (P.mayor)</a:t>
            </a:r>
            <a:endParaRPr b="0" lang="en-US" sz="17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lnSpc>
                <a:spcPct val="80000"/>
              </a:lnSpc>
              <a:spcBef>
                <a:spcPts val="425"/>
              </a:spcBef>
              <a:buClr>
                <a:srgbClr val="ffffff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Rounded MT Bold"/>
              </a:rPr>
              <a:t>Ca caput pankreas dapat menghambat sekresi empedu (P.minor)</a:t>
            </a:r>
            <a:endParaRPr b="0" lang="en-US" sz="17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lnSpc>
                <a:spcPct val="80000"/>
              </a:lnSpc>
              <a:spcBef>
                <a:spcPts val="425"/>
              </a:spcBef>
              <a:buClr>
                <a:srgbClr val="ffffff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Rounded MT Bold"/>
              </a:rPr>
              <a:t>Ca caput pankreas dapat mengakibatkan iketrus (kesimpulan)</a:t>
            </a:r>
            <a:endParaRPr b="0" lang="en-US" sz="17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lnSpc>
                <a:spcPct val="80000"/>
              </a:lnSpc>
              <a:spcBef>
                <a:spcPts val="425"/>
              </a:spcBef>
              <a:buClr>
                <a:srgbClr val="ffffff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Rounded MT Bold"/>
              </a:rPr>
              <a:t>Semua makhluk mempunyai mata (P.Mayor)</a:t>
            </a:r>
            <a:endParaRPr b="0" lang="en-US" sz="17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lnSpc>
                <a:spcPct val="80000"/>
              </a:lnSpc>
              <a:spcBef>
                <a:spcPts val="425"/>
              </a:spcBef>
              <a:buClr>
                <a:srgbClr val="ffffff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Rounded MT Bold"/>
              </a:rPr>
              <a:t>Joni seorang makhluk (P.minor)</a:t>
            </a:r>
            <a:endParaRPr b="0" lang="en-US" sz="17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lnSpc>
                <a:spcPct val="80000"/>
              </a:lnSpc>
              <a:spcBef>
                <a:spcPts val="425"/>
              </a:spcBef>
              <a:buClr>
                <a:srgbClr val="ffffff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Rounded MT Bold"/>
              </a:rPr>
              <a:t>Joni mempunyai mata (kesimpulan)</a:t>
            </a:r>
            <a:endParaRPr b="0" lang="en-US" sz="17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Rounded MT Bold"/>
              </a:rPr>
              <a:t>Kesimpulan akan benar bila premisnya benar dan kesimpulan ditarik dengan logika yang benar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Rounded MT Bold"/>
              </a:rPr>
              <a:t>Segala sesuatu dalam hidup dimulai dengan meragukan sesuatu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Ragukan bahwa bintang-bintang itu api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Ragukan bahwa matahari itu bergerak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Ragukan bahwa kebenaran itu dusta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Tapi jangan ragukan cintaku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Rounded MT Bold"/>
              </a:rPr>
              <a:t>Sumber kebenaran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Rasio – Koherensi-subyektif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Empirik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Intuisi (dpt digunakan sebagai hipotesis)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Wahyu (dpt digunakan sebagai hipotesis)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Title 1" descr=""/>
          <p:cNvPicPr/>
          <p:nvPr/>
        </p:nvPicPr>
        <p:blipFill>
          <a:blip r:embed="rId1"/>
          <a:stretch/>
        </p:blipFill>
        <p:spPr>
          <a:xfrm>
            <a:off x="450720" y="103320"/>
            <a:ext cx="8242560" cy="143964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lnSpc>
                <a:spcPct val="100000"/>
              </a:lnSpc>
              <a:spcBef>
                <a:spcPts val="400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Rounded MT Bold"/>
              </a:rPr>
              <a:t>Anak menganggap guru bohong karena mengatakan: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lnSpc>
                <a:spcPct val="100000"/>
              </a:lnSpc>
              <a:spcBef>
                <a:spcPts val="349"/>
              </a:spcBef>
              <a:buClr>
                <a:srgbClr val="ffffff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Rounded MT Bold"/>
              </a:rPr>
              <a:t>3 + 5 = 8</a:t>
            </a: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lnSpc>
                <a:spcPct val="100000"/>
              </a:lnSpc>
              <a:spcBef>
                <a:spcPts val="349"/>
              </a:spcBef>
              <a:buClr>
                <a:srgbClr val="ffffff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Rounded MT Bold"/>
              </a:rPr>
              <a:t>2 + 6 = 8</a:t>
            </a: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lnSpc>
                <a:spcPct val="100000"/>
              </a:lnSpc>
              <a:spcBef>
                <a:spcPts val="349"/>
              </a:spcBef>
              <a:buClr>
                <a:srgbClr val="ffffff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Rounded MT Bold"/>
              </a:rPr>
              <a:t>1 + 7 = 8</a:t>
            </a: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 Rounded MT Bold"/>
              </a:rPr>
              <a:t>Ini semua tidak benar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400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Rounded MT Bold"/>
              </a:rPr>
              <a:t>Apa kriteria benar? (tidak semua manusia mempunyai kriteria benar yang sama)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400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Rounded MT Bold"/>
              </a:rPr>
              <a:t>Kita menganggap benar karena secara deduktif bisa disebut benar 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400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Rounded MT Bold"/>
              </a:rPr>
              <a:t>Kenapa disebut benar karena pernyataan dan kesimpulan konsisten atau koheren dengan pernyataan dan kesimpulan terdahulu yang telah dianggap benar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400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 Rounded MT Bold"/>
              </a:rPr>
              <a:t>Disebut teori koherensi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400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Rounded MT Bold"/>
              </a:rPr>
              <a:t>Contoh: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lnSpc>
                <a:spcPct val="100000"/>
              </a:lnSpc>
              <a:spcBef>
                <a:spcPts val="349"/>
              </a:spcBef>
              <a:buClr>
                <a:srgbClr val="ffffff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Rounded MT Bold"/>
              </a:rPr>
              <a:t>Semua manusia akan mati</a:t>
            </a: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lnSpc>
                <a:spcPct val="100000"/>
              </a:lnSpc>
              <a:spcBef>
                <a:spcPts val="349"/>
              </a:spcBef>
              <a:buClr>
                <a:srgbClr val="ffffff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Rounded MT Bold"/>
              </a:rPr>
              <a:t>Paimin adalah manusia</a:t>
            </a: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lnSpc>
                <a:spcPct val="100000"/>
              </a:lnSpc>
              <a:spcBef>
                <a:spcPts val="349"/>
              </a:spcBef>
              <a:buClr>
                <a:srgbClr val="ffffff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Rounded MT Bold"/>
              </a:rPr>
              <a:t>Paimin pasti akan mati (ini pasti benar karena konsisten dengan pernyataan sebelumnya)</a:t>
            </a: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Title 1" descr=""/>
          <p:cNvPicPr/>
          <p:nvPr/>
        </p:nvPicPr>
        <p:blipFill>
          <a:blip r:embed="rId1"/>
          <a:stretch/>
        </p:blipFill>
        <p:spPr>
          <a:xfrm>
            <a:off x="189000" y="268200"/>
            <a:ext cx="8504280" cy="115884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Rounded MT Bold"/>
              </a:rPr>
              <a:t>Disebut benar apabila: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Materi pengetahuan yang dikandung oleh pernyataan itu berkorespondensi (berhubungan dengan obyek yang dituju oleh pernyataan tsb. (kenyataan)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Pernyataan adalah benar bila terdapat fakta empiris yang mendukung fakta ersebut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Rounded MT Bold"/>
              </a:rPr>
              <a:t>Contoh: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Ibukota RI adalah Jakarta (pernyataan ini benar karena kenyataannya begitu)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itle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Rounded MT Bold"/>
              </a:rPr>
              <a:t>Teori Pragmatism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Content Placeholder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Disebut benar apabila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Rounded MT Bold"/>
              </a:rPr>
              <a:t>Pernyataan itu mempunyai kegunaan praktis dalam kehidupan manu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Rounded MT Bold"/>
              </a:rPr>
              <a:t>Dibatasi oleh waktu (skrg benar belum tentu untuk 10 th yg akan datang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Rounded MT Bold"/>
              </a:rPr>
              <a:t>Sejauh masih berfungsi maka itu dianggap ben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lnSpc>
                <a:spcPct val="80000"/>
              </a:lnSpc>
              <a:spcBef>
                <a:spcPts val="550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Rounded MT Bold"/>
              </a:rPr>
              <a:t>Ilmu merupakan pengetahuan yang didapatkan lewat metode ilmiah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550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Rounded MT Bold"/>
              </a:rPr>
              <a:t>Metode ilmiah mengandung logika berfikir deduktif dan induktif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550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Rounded MT Bold"/>
              </a:rPr>
              <a:t>Gabungan kedua logika tersebut disebut berfikir secara reflektif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550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Rounded MT Bold"/>
              </a:rPr>
              <a:t>Proses berfikir berangkat dari masalah nyata, maka ilmu adalah mencari jawaban terhadap permasalahan tsb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550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Rounded MT Bold"/>
              </a:rPr>
              <a:t>Ilmu dimulai dari fakta diakhiri dengan fakta apapun teori yang menjembatani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550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Rounded MT Bold"/>
              </a:rPr>
              <a:t>Teori: merupakan penjelasan mengenai gejala yang terdapat pada dunia fisik, merupakan abstraksi intelektual dimana pendekatan secara rasional digabungkan dengan pengalaman empirik. 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Title 1" descr=""/>
          <p:cNvPicPr/>
          <p:nvPr/>
        </p:nvPicPr>
        <p:blipFill>
          <a:blip r:embed="rId1"/>
          <a:stretch/>
        </p:blipFill>
        <p:spPr>
          <a:xfrm>
            <a:off x="450720" y="103320"/>
            <a:ext cx="8242560" cy="143964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15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514440" indent="-386280">
              <a:lnSpc>
                <a:spcPct val="90000"/>
              </a:lnSpc>
              <a:spcBef>
                <a:spcPts val="9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ook Antiqua"/>
              </a:rPr>
              <a:t>Ketahuilah apa yang kau tahu dan ketahuilah apa yang kau tidak tahu</a:t>
            </a: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8" name="TextBox 3"/>
          <p:cNvSpPr/>
          <p:nvPr/>
        </p:nvSpPr>
        <p:spPr>
          <a:xfrm>
            <a:off x="609480" y="3200400"/>
            <a:ext cx="7620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Pengetahuan dimulai dari rasa ingin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tahu, kepastian dimulai dari rasa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ragu-ragu, dan filsafat dimulai dar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keduany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Rounded MT Bold"/>
              </a:rPr>
              <a:t>Kerangka berfikir ilmiah berintikan proses LOGIKO HIPOTETIKO VERIVIKATIF yang pada dasarnya terdiri dari langkah: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Dimulai dari masalah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Penyusunan kerangka berfikir untuk membuat hipotesis (sebagai penunjuk jalan)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Perumusan hipotesi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Pengujian hipotesi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Rounded MT Bold"/>
              </a:rPr>
              <a:t>Mengkonfrontasikan dengan dunia fisik/fakta.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Rounded MT Bold"/>
              </a:rPr>
              <a:t>Untuk itu perlu dikumpulkan fakta yg relevan dengan hipotesis yang diajukan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Penarikan kesimpulan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Rounded MT Bold"/>
              </a:rPr>
              <a:t>Seperti orang yang berpijak di bumi dan sedang tengadah ke bintang-bintang di langi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Dia ingin mengetahui hakekat dirinya dalam kesemestaan galaksi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Rounded MT Bold"/>
              </a:rPr>
              <a:t>Seperti orang yang berdiri di puncak gunung yang tinggi, sedang memandang ke ngarai dan lembah di bawahnya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Dia ingin menyimak kehadirannya dengan kesemestaan yang ditatapnya.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Rounded MT Bold"/>
              </a:rPr>
              <a:t>Menyeluruh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Melihat hakekat ilmu dalam konstelasi pengetahuan yang lainnya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Kaitan antara ilmu dengan: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Arial Rounded MT Bold"/>
              </a:rPr>
              <a:t>moral (memandang rendah pada ilmu lain)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Rounded MT Bold"/>
              </a:rPr>
              <a:t>Agama (memandang rendah agama dan etika)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Rounded MT Bold"/>
              </a:rPr>
              <a:t>kebahagiaan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Rounded MT Bold"/>
              </a:rPr>
              <a:t>Mendasar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Tidak gampang percaya bahwa ilmu itu benar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Rounded MT Bold"/>
              </a:rPr>
              <a:t>Mengapa disebut benar?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Rounded MT Bold"/>
              </a:rPr>
              <a:t>Bagaimana proses penilaian berdasar kriteria tsb dilakukan?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Rounded MT Bold"/>
              </a:rPr>
              <a:t>Apakah kriteria itu benar?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Rounded MT Bold"/>
              </a:rPr>
              <a:t>Benar itu apa?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Rounded MT Bold"/>
              </a:rPr>
              <a:t>Spekulatif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Bukankah spekulasi itu suatu dasar yang tidak bisa diadakan?- memang benar tapi tak bisa dihindarkan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Menyusur sebuah lingkaran harus mulai dari sebuah titik meskipun sangat spekulatif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Rounded MT Bold"/>
              </a:rPr>
              <a:t>Yang penting dlm analisis dan pembuktian kita bisa memisahkan spekulasi mana yang bisa diandalkan dan mana yang tidak.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 txBox="1"/>
          <p:nvPr/>
        </p:nvSpPr>
        <p:spPr>
          <a:xfrm>
            <a:off x="457200" y="160020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Rounded MT Bold"/>
              </a:rPr>
              <a:t>Menetapkan dasar-dasar yang bisa diandalkan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Apa yang disebut logis?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Apa yang disebut benar?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Apa yang disebut sahih?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9" name="TextBox 3"/>
          <p:cNvSpPr/>
          <p:nvPr/>
        </p:nvSpPr>
        <p:spPr>
          <a:xfrm>
            <a:off x="457200" y="3962520"/>
            <a:ext cx="7620120" cy="1923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Rounded MT Bold"/>
              </a:rPr>
              <a:t>Sekarang kita sadar bahwa semua pengetahuan yang sekarang ada dimulai dengan spekulasi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Rounded MT Bold"/>
              </a:rPr>
              <a:t>Mana yang dapat diandalkan dan merupakan titik awal dari penjelajahan pengetahua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Rounded MT Bold"/>
              </a:rPr>
              <a:t>Tanpa menetapkan apa yang disebut benar dan baik tentu pengetahuan lain tidak bisa berkemba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Rounded MT Bold"/>
              </a:rPr>
              <a:t>Sebagai pionir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Seperti pasukan marinir yang merebut pantai untuk pendaratan pasukan infantri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Infantri (pengetahuan/ilmu)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Semua ilmu bertolak dari filsafat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Rounded MT Bold"/>
              </a:rPr>
              <a:t>Philosophiae Naturalis Principia Mathematica (Issac Newton, 1686)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Rounded MT Bold"/>
              </a:rPr>
              <a:t>Natural Philosophy – nama fisika dulu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Rounded MT Bold"/>
              </a:rPr>
              <a:t>Moral Philosophy – nama ekonomi dulu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4T21:10:51Z</dcterms:created>
  <dc:creator>user</dc:creator>
  <dc:description/>
  <dc:language>en-US</dc:language>
  <cp:lastModifiedBy>user</cp:lastModifiedBy>
  <dcterms:modified xsi:type="dcterms:W3CDTF">2007-09-27T06:25:15Z</dcterms:modified>
  <cp:revision>27</cp:revision>
  <dc:subject/>
  <dc:title>Filsafat Ilmu</dc:title>
</cp:coreProperties>
</file>